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F362-CE75-45F3-B79A-7A621D34A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yparo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6864-76D4-477E-89C0-28B3E85584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D26D-91CD-422B-9C4D-7EF8A8A232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7DB0-8F39-4B94-B8C4-AB9BABB0A9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81C1-89AD-44FD-AAF6-A4172E1EEC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9304-AB3B-444E-A148-F638D4986B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4E25-04C9-437F-87C1-4C250FA962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C018-67F8-4654-9047-7CF05F01A8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DFB3-7E1E-4ED8-9C5B-E5FB7E0ED7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457B-1201-4817-AA99-99893822F2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1EBA-5E0C-46AC-873B-F250227189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722D-2BB6-43E7-A719-C2E7DB1A18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A08C-B97D-4C58-802B-7A2C574FF8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10BD-5517-4A3B-BE05-B831BE6C98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EE65-9309-4D79-88D9-5C9599D167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F41B-84AF-4C9A-AD87-3612FFB5D2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0FDD-2694-4336-BB30-7139F4F9DB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F560-513F-47F0-9729-A09285E934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D4AC-E1AC-426F-9BE7-41C3274E00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B599-A6C4-4999-B502-BDDEB1A26A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FDBE-9F61-4557-B154-2839F751D8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FE4E-DB07-4F21-A8C4-53430797BE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A1D5-6A9B-4EE7-975A-141AD02D84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7CDE-10E7-4682-900C-40A91C0BE3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1424-BC31-4D9C-B702-C0624195B6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454B-ED1D-4822-9A00-FE31F77970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3EC8-894C-4C3E-991A-D995DACF9C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C7A7-EBC6-4F57-91BE-DF9EFDFFF5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151F-5C37-4B95-B760-45452689B9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6FDA-B0E9-4DDA-937B-2E1532F1AA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93DE-1B22-417C-B949-A0048F4A9B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E219-34BA-4DBC-AF6D-5AF1843E24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393E-7CAE-49AF-9E96-BD770B5A7A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076E-64D8-4290-B680-6874288A21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64FA-DFE0-4D26-910A-F3253DFCE0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54E8-A208-4AF4-980D-D8A42008DB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5621-9577-4D92-9E9D-C5CBEE0023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40AB-8C97-4F31-B3B5-27F5ADADCA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BF9A-18CE-4897-AA5B-92D377700B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CAAB-C2FC-45A2-A6E0-842E0FA9F7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9FCC-1292-4AA7-AA6C-9A1A9690C8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4A7E-08D0-49AE-85D9-28D3C5569C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4187-2E3E-40AA-A4E5-427C144E8A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4F19-1780-425B-A5A1-B04B8C8E4B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ABB4-983A-4764-A1EA-297149C250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05C1-71F7-4708-9371-941BE43645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9AF3-2724-4B35-9BD5-A9F0F590C7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999C-898F-4FE6-9D6D-DFAE0377D5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8C98-29DF-422D-9AB4-A5A3CD5978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0A3A-BF06-4DDF-95FE-B40028925E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07F3-29BA-4104-8CD5-5C9045F040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409A-7232-4A61-AE01-D2DDC024A0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FA9D-4B84-44AF-83AE-01246E428B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BAD7-55F6-46AA-ACCA-D8E4C27DBE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3808-2B90-4966-9DD6-23CBBC38B3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0B4C-FEF3-4509-A6EC-0841476535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F4F3-D077-475B-83F3-D816ABB79C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728A-69CE-4737-8D65-28163E6AA7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C4A3-0906-49A4-BE66-A8E9A55046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EEE8-684D-4676-8E1F-2738B77D03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D86-7C59-4153-BD1D-77B70496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97F-2782-449D-BD9C-97992668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E46-3056-46F1-9D77-BD32FB72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CF6-0BA6-43BE-B93E-D045E27F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11A5-D06D-47DD-984D-B3D50F51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A71-1C45-48F7-AF97-BBB4B4D0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E04-038D-45FB-9000-EFCA1770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C45-C4E4-4337-B401-E0C76729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1FD-C787-4BC9-B649-E290D1FB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FC9-946C-4B5D-AE42-E68F6C82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17D-8374-4758-BC2A-0C019299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9E2F-FA74-47CD-881D-2CC8A685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23720" y="438120"/>
            <a:ext cx="8269560" cy="5988240"/>
          </a:xfrm>
          <a:prstGeom prst="rect">
            <a:avLst/>
          </a:prstGeom>
          <a:solidFill>
            <a:srgbClr val="0000cc">
              <a:alpha val="23000"/>
            </a:srgbClr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CD55-23F0-471A-99D5-64751B7987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yparody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7960" y="225360"/>
            <a:ext cx="8653680" cy="6361200"/>
          </a:xfrm>
          <a:prstGeom prst="rect">
            <a:avLst/>
          </a:pr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17.xml"/><Relationship Id="rId3" Type="http://schemas.openxmlformats.org/officeDocument/2006/relationships/slide" Target="slide23.xml"/><Relationship Id="rId4" Type="http://schemas.openxmlformats.org/officeDocument/2006/relationships/slide" Target="slide54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47.xml"/><Relationship Id="rId8" Type="http://schemas.openxmlformats.org/officeDocument/2006/relationships/slide" Target="slide40.xml"/><Relationship Id="rId9" Type="http://schemas.openxmlformats.org/officeDocument/2006/relationships/slide" Target="slide45.xml"/><Relationship Id="rId10" Type="http://schemas.openxmlformats.org/officeDocument/2006/relationships/slide" Target="slide34.xml"/><Relationship Id="rId11" Type="http://schemas.openxmlformats.org/officeDocument/2006/relationships/slide" Target="slide19.xml"/><Relationship Id="rId12" Type="http://schemas.openxmlformats.org/officeDocument/2006/relationships/slide" Target="slide26.xml"/><Relationship Id="rId13" Type="http://schemas.openxmlformats.org/officeDocument/2006/relationships/slide" Target="slide6.xml"/><Relationship Id="rId14" Type="http://schemas.openxmlformats.org/officeDocument/2006/relationships/slide" Target="slide9.xml"/><Relationship Id="rId15" Type="http://schemas.openxmlformats.org/officeDocument/2006/relationships/slide" Target="slide21.xml"/><Relationship Id="rId16" Type="http://schemas.openxmlformats.org/officeDocument/2006/relationships/slide" Target="slide15.xml"/><Relationship Id="rId17" Type="http://schemas.openxmlformats.org/officeDocument/2006/relationships/slide" Target="slide32.xml"/><Relationship Id="rId18" Type="http://schemas.openxmlformats.org/officeDocument/2006/relationships/slide" Target="slide49.xml"/><Relationship Id="rId19" Type="http://schemas.openxmlformats.org/officeDocument/2006/relationships/slide" Target="slide28.xml"/><Relationship Id="rId20" Type="http://schemas.openxmlformats.org/officeDocument/2006/relationships/slide" Target="slide52.xml"/><Relationship Id="rId21" Type="http://schemas.openxmlformats.org/officeDocument/2006/relationships/slide" Target="slide30.xml"/><Relationship Id="rId22" Type="http://schemas.openxmlformats.org/officeDocument/2006/relationships/slide" Target="slide43.xml"/><Relationship Id="rId23" Type="http://schemas.openxmlformats.org/officeDocument/2006/relationships/slide" Target="slide56.xml"/><Relationship Id="rId24" Type="http://schemas.openxmlformats.org/officeDocument/2006/relationships/slide" Target="slide36.xm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Picture1"/>
          <p:cNvPicPr/>
          <p:nvPr/>
        </p:nvPicPr>
        <p:blipFill>
          <a:blip r:embed="rId1"/>
          <a:stretch/>
        </p:blipFill>
        <p:spPr>
          <a:xfrm>
            <a:off x="1028880" y="957240"/>
            <a:ext cx="7084800" cy="4943520"/>
          </a:xfrm>
          <a:prstGeom prst="rect">
            <a:avLst/>
          </a:prstGeom>
          <a:ln w="0">
            <a:noFill/>
          </a:ln>
        </p:spPr>
      </p:pic>
      <p:sp>
        <p:nvSpPr>
          <p:cNvPr id="51" name="WordArt 2"/>
          <p:cNvSpPr txBox="1"/>
          <p:nvPr/>
        </p:nvSpPr>
        <p:spPr>
          <a:xfrm>
            <a:off x="914400" y="1828800"/>
            <a:ext cx="664380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yparody"/>
              </a:rPr>
              <a:t>Trivia!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yparody"/>
              <a:ea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TPChart"/>
          <p:cNvGraphicFramePr/>
          <p:nvPr/>
        </p:nvGraphicFramePr>
        <p:xfrm>
          <a:off x="1035000" y="2011320"/>
          <a:ext cx="498780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2011320"/>
                    <a:ext cx="498780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01360" y="2209680"/>
            <a:ext cx="55371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9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vie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85280" y="3844800"/>
            <a:ext cx="8201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TPChart"/>
          <p:cNvGraphicFramePr/>
          <p:nvPr/>
        </p:nvGraphicFramePr>
        <p:xfrm>
          <a:off x="498600" y="1689120"/>
          <a:ext cx="795960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1689120"/>
                    <a:ext cx="795960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97160" y="1828440"/>
            <a:ext cx="7137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iana Jones and the Temple of D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Lies Ben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iana Jones and the Last Crus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ders of the Lost 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6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ienc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98240" y="3843360"/>
            <a:ext cx="8119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TPChart"/>
          <p:cNvGraphicFramePr/>
          <p:nvPr/>
        </p:nvGraphicFramePr>
        <p:xfrm>
          <a:off x="812880" y="1841400"/>
          <a:ext cx="695952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841400"/>
                    <a:ext cx="695952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01360" y="1981080"/>
            <a:ext cx="64515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tty Hea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ohn Got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arles Man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tt “the trigger” Van Vran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1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vie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64760" y="3902040"/>
            <a:ext cx="8188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TPChart"/>
          <p:cNvGraphicFramePr/>
          <p:nvPr/>
        </p:nvGraphicFramePr>
        <p:xfrm>
          <a:off x="573120" y="2057400"/>
          <a:ext cx="7885080" cy="24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2057400"/>
                    <a:ext cx="7885080" cy="24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97160" y="2209680"/>
            <a:ext cx="6527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rty Ha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Good, the Bad and the Ug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rofessio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Fistful of Doll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6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usic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64760" y="3846240"/>
            <a:ext cx="8069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TPChart"/>
          <p:cNvGraphicFramePr/>
          <p:nvPr/>
        </p:nvGraphicFramePr>
        <p:xfrm>
          <a:off x="888840" y="2070000"/>
          <a:ext cx="703584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2070000"/>
                    <a:ext cx="703584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77680" y="2133360"/>
            <a:ext cx="5537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ton Joh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ames Tay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ames B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immy C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vie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44600" y="3867120"/>
            <a:ext cx="8184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944640"/>
            <a:ext cx="792468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Gyparody"/>
              </a:rPr>
              <a:t>Please select a Team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TPChart"/>
          <p:cNvGraphicFramePr/>
          <p:nvPr/>
        </p:nvGraphicFramePr>
        <p:xfrm>
          <a:off x="406440" y="2128680"/>
          <a:ext cx="7518240" cy="29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2128680"/>
                    <a:ext cx="7518240" cy="29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11"/>
              </a:spcAft>
              <a:buClr>
                <a:srgbClr val="ffffff"/>
              </a:buClr>
              <a:buFont typeface="Gyparo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yparody"/>
              </a:rPr>
              <a:t>Team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11"/>
              </a:spcAft>
              <a:buClr>
                <a:srgbClr val="ffffff"/>
              </a:buClr>
              <a:buFont typeface="Gyparo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yparody"/>
              </a:rPr>
              <a:t>Team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11"/>
              </a:spcAft>
              <a:buClr>
                <a:srgbClr val="ffffff"/>
              </a:buClr>
              <a:buFont typeface="Gyparo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yparody"/>
              </a:rPr>
              <a:t>Team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11"/>
              </a:spcAft>
              <a:buClr>
                <a:srgbClr val="ffffff"/>
              </a:buClr>
              <a:buFont typeface="Gyparo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yparody"/>
              </a:rPr>
              <a:t>Team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11"/>
              </a:spcAft>
              <a:buClr>
                <a:srgbClr val="ffffff"/>
              </a:buClr>
              <a:buFont typeface="Gyparo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yparody"/>
              </a:rPr>
              <a:t>Team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TPChart"/>
          <p:cNvGraphicFramePr/>
          <p:nvPr/>
        </p:nvGraphicFramePr>
        <p:xfrm>
          <a:off x="685800" y="1828800"/>
          <a:ext cx="7086600" cy="22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08660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96800" y="1981080"/>
            <a:ext cx="55371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nor Defer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.W.A.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ienc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85280" y="3300480"/>
            <a:ext cx="81313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is famous couple married in 198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TPChart"/>
          <p:cNvGraphicFramePr/>
          <p:nvPr/>
        </p:nvGraphicFramePr>
        <p:xfrm>
          <a:off x="573120" y="1986120"/>
          <a:ext cx="7656480" cy="24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1986120"/>
                    <a:ext cx="765648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97160" y="2133360"/>
            <a:ext cx="6527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z Taylor &amp; Richard Bur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ackie Kennedy &amp; Aristotle Onas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rge Bush &amp; Laura Wel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ince Charles &amp; Lady Di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6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ort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66560" y="3854520"/>
            <a:ext cx="81439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ter question text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TPChart"/>
          <p:cNvGraphicFramePr/>
          <p:nvPr/>
        </p:nvGraphicFramePr>
        <p:xfrm>
          <a:off x="581040" y="1841400"/>
          <a:ext cx="750096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841400"/>
                    <a:ext cx="750096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se are the names of the five children from the Partridge Fami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TPChart"/>
          <p:cNvGraphicFramePr/>
          <p:nvPr/>
        </p:nvGraphicFramePr>
        <p:xfrm>
          <a:off x="380880" y="2438280"/>
          <a:ext cx="94093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38280"/>
                    <a:ext cx="94093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ith, Laurie, Danny, Chris, Trac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chael, Tito, Jermaine, Randy, Mar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rcia, Jan, Peter, Bobby, G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ohn Boy, Mary Ellen, Jason, Elizabeth, Jim B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6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usic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92120" y="3857400"/>
            <a:ext cx="8129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se two singers wrote “We are the World – USA for Africa” in 1986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TPChart"/>
          <p:cNvGraphicFramePr/>
          <p:nvPr/>
        </p:nvGraphicFramePr>
        <p:xfrm>
          <a:off x="344520" y="2362320"/>
          <a:ext cx="940896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2362320"/>
                    <a:ext cx="940896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26668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chael Jackson &amp; Diana R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tt ‘Smooth’ Van Vranken &amp; Bill ‘The Voice’ Reitsc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chael Jackson &amp; Lionel Ritch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onel Ritchie &amp; Bruce Springst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tpourri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68360" y="3865320"/>
            <a:ext cx="81741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" name="TPChart"/>
          <p:cNvGraphicFramePr/>
          <p:nvPr/>
        </p:nvGraphicFramePr>
        <p:xfrm>
          <a:off x="1219320" y="2400480"/>
          <a:ext cx="6400800" cy="12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00480"/>
                    <a:ext cx="640080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34880" y="2742840"/>
            <a:ext cx="5537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6921360" y="1736640"/>
            <a:ext cx="1576440" cy="822240"/>
          </a:xfrm>
          <a:custGeom>
            <a:avLst/>
            <a:gdLst>
              <a:gd name="textAreaLeft" fmla="*/ 53280 w 1576440"/>
              <a:gd name="textAreaRight" fmla="*/ 1523160 w 1576440"/>
              <a:gd name="textAreaTop" fmla="*/ 53280 h 822240"/>
              <a:gd name="textAreaBottom" fmla="*/ 768960 h 822240"/>
            </a:gdLst>
            <a:ahLst/>
            <a:rect l="textAreaLeft" t="textAreaTop" r="textAreaRight" b="textAreaBottom"/>
            <a:pathLst>
              <a:path w="41404" h="21600">
                <a:moveTo>
                  <a:pt x="0" y="0"/>
                </a:moveTo>
                <a:lnTo>
                  <a:pt x="41404" y="0"/>
                </a:lnTo>
                <a:lnTo>
                  <a:pt x="41404" y="21600"/>
                </a:lnTo>
                <a:lnTo>
                  <a:pt x="0" y="21600"/>
                </a:lnTo>
                <a:close/>
              </a:path>
              <a:path fill="lightenLess" w="41404" h="21600">
                <a:moveTo>
                  <a:pt x="0" y="0"/>
                </a:moveTo>
                <a:lnTo>
                  <a:pt x="41404" y="0"/>
                </a:lnTo>
                <a:lnTo>
                  <a:pt x="40004" y="1400"/>
                </a:lnTo>
                <a:lnTo>
                  <a:pt x="1400" y="1400"/>
                </a:lnTo>
                <a:close/>
              </a:path>
              <a:path fill="darken" w="41404" h="21600">
                <a:moveTo>
                  <a:pt x="41404" y="0"/>
                </a:moveTo>
                <a:lnTo>
                  <a:pt x="41404" y="21600"/>
                </a:lnTo>
                <a:lnTo>
                  <a:pt x="40004" y="20200"/>
                </a:lnTo>
                <a:lnTo>
                  <a:pt x="40004" y="1400"/>
                </a:lnTo>
                <a:close/>
              </a:path>
              <a:path fill="darkenLess" w="41404" h="21600">
                <a:moveTo>
                  <a:pt x="41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04" y="20200"/>
                </a:lnTo>
                <a:close/>
              </a:path>
              <a:path fill="lighten" w="41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326200" y="1739880"/>
            <a:ext cx="1535040" cy="822240"/>
          </a:xfrm>
          <a:custGeom>
            <a:avLst/>
            <a:gdLst>
              <a:gd name="textAreaLeft" fmla="*/ 53280 w 1535040"/>
              <a:gd name="textAreaRight" fmla="*/ 1481760 w 1535040"/>
              <a:gd name="textAreaTop" fmla="*/ 53280 h 822240"/>
              <a:gd name="textAreaBottom" fmla="*/ 768960 h 822240"/>
            </a:gdLst>
            <a:ahLst/>
            <a:rect l="textAreaLeft" t="textAreaTop" r="textAreaRight" b="textAreaBottom"/>
            <a:pathLst>
              <a:path w="40317" h="21600">
                <a:moveTo>
                  <a:pt x="0" y="0"/>
                </a:moveTo>
                <a:lnTo>
                  <a:pt x="40317" y="0"/>
                </a:lnTo>
                <a:lnTo>
                  <a:pt x="40317" y="21600"/>
                </a:lnTo>
                <a:lnTo>
                  <a:pt x="0" y="21600"/>
                </a:lnTo>
                <a:close/>
              </a:path>
              <a:path fill="lightenLess" w="40317" h="21600">
                <a:moveTo>
                  <a:pt x="0" y="0"/>
                </a:moveTo>
                <a:lnTo>
                  <a:pt x="40317" y="0"/>
                </a:lnTo>
                <a:lnTo>
                  <a:pt x="38917" y="1400"/>
                </a:lnTo>
                <a:lnTo>
                  <a:pt x="1400" y="1400"/>
                </a:lnTo>
                <a:close/>
              </a:path>
              <a:path fill="darken" w="40317" h="21600">
                <a:moveTo>
                  <a:pt x="40317" y="0"/>
                </a:moveTo>
                <a:lnTo>
                  <a:pt x="40317" y="21600"/>
                </a:lnTo>
                <a:lnTo>
                  <a:pt x="38917" y="20200"/>
                </a:lnTo>
                <a:lnTo>
                  <a:pt x="38917" y="1400"/>
                </a:lnTo>
                <a:close/>
              </a:path>
              <a:path fill="darkenLess" w="40317" h="21600">
                <a:moveTo>
                  <a:pt x="40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17" y="20200"/>
                </a:lnTo>
                <a:close/>
              </a:path>
              <a:path fill="lighten" w="40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3675240" y="1728720"/>
            <a:ext cx="1535040" cy="822240"/>
          </a:xfrm>
          <a:custGeom>
            <a:avLst/>
            <a:gdLst>
              <a:gd name="textAreaLeft" fmla="*/ 53280 w 1535040"/>
              <a:gd name="textAreaRight" fmla="*/ 1481760 w 1535040"/>
              <a:gd name="textAreaTop" fmla="*/ 53280 h 822240"/>
              <a:gd name="textAreaBottom" fmla="*/ 768960 h 822240"/>
            </a:gdLst>
            <a:ahLst/>
            <a:rect l="textAreaLeft" t="textAreaTop" r="textAreaRight" b="textAreaBottom"/>
            <a:pathLst>
              <a:path w="40317" h="21600">
                <a:moveTo>
                  <a:pt x="0" y="0"/>
                </a:moveTo>
                <a:lnTo>
                  <a:pt x="40317" y="0"/>
                </a:lnTo>
                <a:lnTo>
                  <a:pt x="40317" y="21600"/>
                </a:lnTo>
                <a:lnTo>
                  <a:pt x="0" y="21600"/>
                </a:lnTo>
                <a:close/>
              </a:path>
              <a:path fill="lightenLess" w="40317" h="21600">
                <a:moveTo>
                  <a:pt x="0" y="0"/>
                </a:moveTo>
                <a:lnTo>
                  <a:pt x="40317" y="0"/>
                </a:lnTo>
                <a:lnTo>
                  <a:pt x="38917" y="1400"/>
                </a:lnTo>
                <a:lnTo>
                  <a:pt x="1400" y="1400"/>
                </a:lnTo>
                <a:close/>
              </a:path>
              <a:path fill="darken" w="40317" h="21600">
                <a:moveTo>
                  <a:pt x="40317" y="0"/>
                </a:moveTo>
                <a:lnTo>
                  <a:pt x="40317" y="21600"/>
                </a:lnTo>
                <a:lnTo>
                  <a:pt x="38917" y="20200"/>
                </a:lnTo>
                <a:lnTo>
                  <a:pt x="38917" y="1400"/>
                </a:lnTo>
                <a:close/>
              </a:path>
              <a:path fill="darkenLess" w="40317" h="21600">
                <a:moveTo>
                  <a:pt x="40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17" y="20200"/>
                </a:lnTo>
                <a:close/>
              </a:path>
              <a:path fill="lighten" w="40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2147760" y="1731960"/>
            <a:ext cx="1441440" cy="836640"/>
          </a:xfrm>
          <a:custGeom>
            <a:avLst/>
            <a:gdLst>
              <a:gd name="textAreaLeft" fmla="*/ 54000 w 1441440"/>
              <a:gd name="textAreaRight" fmla="*/ 1387440 w 14414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7208" h="21600">
                <a:moveTo>
                  <a:pt x="0" y="0"/>
                </a:moveTo>
                <a:lnTo>
                  <a:pt x="37208" y="0"/>
                </a:lnTo>
                <a:lnTo>
                  <a:pt x="37208" y="21600"/>
                </a:lnTo>
                <a:lnTo>
                  <a:pt x="0" y="21600"/>
                </a:lnTo>
                <a:close/>
              </a:path>
              <a:path fill="lightenLess" w="37208" h="21600">
                <a:moveTo>
                  <a:pt x="0" y="0"/>
                </a:moveTo>
                <a:lnTo>
                  <a:pt x="37208" y="0"/>
                </a:lnTo>
                <a:lnTo>
                  <a:pt x="35808" y="1400"/>
                </a:lnTo>
                <a:lnTo>
                  <a:pt x="1400" y="1400"/>
                </a:lnTo>
                <a:close/>
              </a:path>
              <a:path fill="darken" w="37208" h="21600">
                <a:moveTo>
                  <a:pt x="37208" y="0"/>
                </a:moveTo>
                <a:lnTo>
                  <a:pt x="37208" y="21600"/>
                </a:lnTo>
                <a:lnTo>
                  <a:pt x="35808" y="20200"/>
                </a:lnTo>
                <a:lnTo>
                  <a:pt x="35808" y="1400"/>
                </a:lnTo>
                <a:close/>
              </a:path>
              <a:path fill="darkenLess" w="37208" h="21600">
                <a:moveTo>
                  <a:pt x="372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08" y="20200"/>
                </a:lnTo>
                <a:close/>
              </a:path>
              <a:path fill="lighten" w="372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649440" y="1708200"/>
            <a:ext cx="1414440" cy="836640"/>
          </a:xfrm>
          <a:custGeom>
            <a:avLst/>
            <a:gdLst>
              <a:gd name="textAreaLeft" fmla="*/ 54000 w 1414440"/>
              <a:gd name="textAreaRight" fmla="*/ 1360440 w 14144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6511" h="21600">
                <a:moveTo>
                  <a:pt x="0" y="0"/>
                </a:moveTo>
                <a:lnTo>
                  <a:pt x="36511" y="0"/>
                </a:lnTo>
                <a:lnTo>
                  <a:pt x="36511" y="21600"/>
                </a:lnTo>
                <a:lnTo>
                  <a:pt x="0" y="21600"/>
                </a:lnTo>
                <a:close/>
              </a:path>
              <a:path fill="lightenLess" w="36511" h="21600">
                <a:moveTo>
                  <a:pt x="0" y="0"/>
                </a:moveTo>
                <a:lnTo>
                  <a:pt x="36511" y="0"/>
                </a:lnTo>
                <a:lnTo>
                  <a:pt x="35111" y="1400"/>
                </a:lnTo>
                <a:lnTo>
                  <a:pt x="1400" y="1400"/>
                </a:lnTo>
                <a:close/>
              </a:path>
              <a:path fill="darken" w="36511" h="21600">
                <a:moveTo>
                  <a:pt x="36511" y="0"/>
                </a:moveTo>
                <a:lnTo>
                  <a:pt x="36511" y="21600"/>
                </a:lnTo>
                <a:lnTo>
                  <a:pt x="35111" y="20200"/>
                </a:lnTo>
                <a:lnTo>
                  <a:pt x="35111" y="1400"/>
                </a:lnTo>
                <a:close/>
              </a:path>
              <a:path fill="darkenLess" w="36511" h="21600">
                <a:moveTo>
                  <a:pt x="3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1" y="20200"/>
                </a:lnTo>
                <a:close/>
              </a:path>
              <a:path fill="lighten" w="3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grpSp>
        <p:nvGrpSpPr>
          <p:cNvPr id="61" name="Group 7"/>
          <p:cNvGrpSpPr/>
          <p:nvPr/>
        </p:nvGrpSpPr>
        <p:grpSpPr>
          <a:xfrm>
            <a:off x="641520" y="2622600"/>
            <a:ext cx="7873920" cy="3483000"/>
            <a:chOff x="641520" y="2622600"/>
            <a:chExt cx="7873920" cy="3483000"/>
          </a:xfrm>
        </p:grpSpPr>
        <p:sp>
          <p:nvSpPr>
            <p:cNvPr id="62" name="AutoShape 8"/>
            <p:cNvSpPr/>
            <p:nvPr/>
          </p:nvSpPr>
          <p:spPr>
            <a:xfrm>
              <a:off x="641520" y="2633760"/>
              <a:ext cx="1425240" cy="617400"/>
            </a:xfrm>
            <a:custGeom>
              <a:avLst/>
              <a:gdLst>
                <a:gd name="textAreaLeft" fmla="*/ 39960 w 1425240"/>
                <a:gd name="textAreaRight" fmla="*/ 1385280 w 142524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49846" h="21600">
                  <a:moveTo>
                    <a:pt x="0" y="0"/>
                  </a:moveTo>
                  <a:lnTo>
                    <a:pt x="49846" y="0"/>
                  </a:lnTo>
                  <a:lnTo>
                    <a:pt x="49846" y="21600"/>
                  </a:lnTo>
                  <a:lnTo>
                    <a:pt x="0" y="21600"/>
                  </a:lnTo>
                  <a:close/>
                </a:path>
                <a:path fill="lightenLess" w="49846" h="21600">
                  <a:moveTo>
                    <a:pt x="0" y="0"/>
                  </a:moveTo>
                  <a:lnTo>
                    <a:pt x="49846" y="0"/>
                  </a:lnTo>
                  <a:lnTo>
                    <a:pt x="48446" y="1400"/>
                  </a:lnTo>
                  <a:lnTo>
                    <a:pt x="1400" y="1400"/>
                  </a:lnTo>
                  <a:close/>
                </a:path>
                <a:path fill="darken" w="49846" h="21600">
                  <a:moveTo>
                    <a:pt x="49846" y="0"/>
                  </a:moveTo>
                  <a:lnTo>
                    <a:pt x="49846" y="21600"/>
                  </a:lnTo>
                  <a:lnTo>
                    <a:pt x="48446" y="20200"/>
                  </a:lnTo>
                  <a:lnTo>
                    <a:pt x="48446" y="1400"/>
                  </a:lnTo>
                  <a:close/>
                </a:path>
                <a:path fill="darkenLess" w="49846" h="21600">
                  <a:moveTo>
                    <a:pt x="4984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446" y="20200"/>
                  </a:lnTo>
                  <a:close/>
                </a:path>
                <a:path fill="lighten" w="4984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63" name="AutoShape 9"/>
            <p:cNvSpPr/>
            <p:nvPr/>
          </p:nvSpPr>
          <p:spPr>
            <a:xfrm>
              <a:off x="2158920" y="2635200"/>
              <a:ext cx="1425600" cy="617760"/>
            </a:xfrm>
            <a:custGeom>
              <a:avLst/>
              <a:gdLst>
                <a:gd name="textAreaLeft" fmla="*/ 39960 w 1425600"/>
                <a:gd name="textAreaRight" fmla="*/ 1385640 w 1425600"/>
                <a:gd name="textAreaTop" fmla="*/ 39960 h 617760"/>
                <a:gd name="textAreaBottom" fmla="*/ 577800 h 617760"/>
              </a:gdLst>
              <a:ahLst/>
              <a:rect l="textAreaLeft" t="textAreaTop" r="textAreaRight" b="textAreaBottom"/>
              <a:pathLst>
                <a:path w="49830" h="21600">
                  <a:moveTo>
                    <a:pt x="0" y="0"/>
                  </a:moveTo>
                  <a:lnTo>
                    <a:pt x="49830" y="0"/>
                  </a:lnTo>
                  <a:lnTo>
                    <a:pt x="49830" y="21600"/>
                  </a:lnTo>
                  <a:lnTo>
                    <a:pt x="0" y="21600"/>
                  </a:lnTo>
                  <a:close/>
                </a:path>
                <a:path fill="lightenLess" w="49830" h="21600">
                  <a:moveTo>
                    <a:pt x="0" y="0"/>
                  </a:moveTo>
                  <a:lnTo>
                    <a:pt x="49830" y="0"/>
                  </a:lnTo>
                  <a:lnTo>
                    <a:pt x="48430" y="1400"/>
                  </a:lnTo>
                  <a:lnTo>
                    <a:pt x="1400" y="1400"/>
                  </a:lnTo>
                  <a:close/>
                </a:path>
                <a:path fill="darken" w="49830" h="21600">
                  <a:moveTo>
                    <a:pt x="49830" y="0"/>
                  </a:moveTo>
                  <a:lnTo>
                    <a:pt x="49830" y="21600"/>
                  </a:lnTo>
                  <a:lnTo>
                    <a:pt x="48430" y="20200"/>
                  </a:lnTo>
                  <a:lnTo>
                    <a:pt x="48430" y="1400"/>
                  </a:lnTo>
                  <a:close/>
                </a:path>
                <a:path fill="darkenLess" w="49830" h="21600">
                  <a:moveTo>
                    <a:pt x="4983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430" y="20200"/>
                  </a:lnTo>
                  <a:close/>
                </a:path>
                <a:path fill="lighten" w="4983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64" name="AutoShape 10"/>
            <p:cNvSpPr/>
            <p:nvPr/>
          </p:nvSpPr>
          <p:spPr>
            <a:xfrm>
              <a:off x="3673440" y="2635200"/>
              <a:ext cx="1549440" cy="617760"/>
            </a:xfrm>
            <a:custGeom>
              <a:avLst/>
              <a:gdLst>
                <a:gd name="textAreaLeft" fmla="*/ 39960 w 1549440"/>
                <a:gd name="textAreaRight" fmla="*/ 1509480 w 1549440"/>
                <a:gd name="textAreaTop" fmla="*/ 39960 h 617760"/>
                <a:gd name="textAreaBottom" fmla="*/ 577800 h 617760"/>
              </a:gdLst>
              <a:ahLst/>
              <a:rect l="textAreaLeft" t="textAreaTop" r="textAreaRight" b="textAreaBottom"/>
              <a:pathLst>
                <a:path w="54157" h="21600">
                  <a:moveTo>
                    <a:pt x="0" y="0"/>
                  </a:moveTo>
                  <a:lnTo>
                    <a:pt x="54157" y="0"/>
                  </a:lnTo>
                  <a:lnTo>
                    <a:pt x="54157" y="21600"/>
                  </a:lnTo>
                  <a:lnTo>
                    <a:pt x="0" y="21600"/>
                  </a:lnTo>
                  <a:close/>
                </a:path>
                <a:path fill="lightenLess" w="54157" h="21600">
                  <a:moveTo>
                    <a:pt x="0" y="0"/>
                  </a:moveTo>
                  <a:lnTo>
                    <a:pt x="54157" y="0"/>
                  </a:lnTo>
                  <a:lnTo>
                    <a:pt x="52757" y="1400"/>
                  </a:lnTo>
                  <a:lnTo>
                    <a:pt x="1400" y="1400"/>
                  </a:lnTo>
                  <a:close/>
                </a:path>
                <a:path fill="darken" w="54157" h="21600">
                  <a:moveTo>
                    <a:pt x="54157" y="0"/>
                  </a:moveTo>
                  <a:lnTo>
                    <a:pt x="54157" y="21600"/>
                  </a:lnTo>
                  <a:lnTo>
                    <a:pt x="52757" y="20200"/>
                  </a:lnTo>
                  <a:lnTo>
                    <a:pt x="52757" y="1400"/>
                  </a:lnTo>
                  <a:close/>
                </a:path>
                <a:path fill="darkenLess" w="54157" h="21600">
                  <a:moveTo>
                    <a:pt x="5415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757" y="20200"/>
                  </a:lnTo>
                  <a:close/>
                </a:path>
                <a:path fill="lighten" w="5415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65" name="AutoShape 11"/>
            <p:cNvSpPr/>
            <p:nvPr/>
          </p:nvSpPr>
          <p:spPr>
            <a:xfrm>
              <a:off x="5324400" y="2622600"/>
              <a:ext cx="1521000" cy="617400"/>
            </a:xfrm>
            <a:custGeom>
              <a:avLst/>
              <a:gdLst>
                <a:gd name="textAreaLeft" fmla="*/ 39960 w 1521000"/>
                <a:gd name="textAreaRight" fmla="*/ 1481040 w 152100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3194" h="21600">
                  <a:moveTo>
                    <a:pt x="0" y="0"/>
                  </a:moveTo>
                  <a:lnTo>
                    <a:pt x="53194" y="0"/>
                  </a:lnTo>
                  <a:lnTo>
                    <a:pt x="53194" y="21600"/>
                  </a:lnTo>
                  <a:lnTo>
                    <a:pt x="0" y="21600"/>
                  </a:lnTo>
                  <a:close/>
                </a:path>
                <a:path fill="lightenLess" w="53194" h="21600">
                  <a:moveTo>
                    <a:pt x="0" y="0"/>
                  </a:moveTo>
                  <a:lnTo>
                    <a:pt x="53194" y="0"/>
                  </a:lnTo>
                  <a:lnTo>
                    <a:pt x="51794" y="1400"/>
                  </a:lnTo>
                  <a:lnTo>
                    <a:pt x="1400" y="1400"/>
                  </a:lnTo>
                  <a:close/>
                </a:path>
                <a:path fill="darken" w="53194" h="21600">
                  <a:moveTo>
                    <a:pt x="53194" y="0"/>
                  </a:moveTo>
                  <a:lnTo>
                    <a:pt x="53194" y="21600"/>
                  </a:lnTo>
                  <a:lnTo>
                    <a:pt x="51794" y="20200"/>
                  </a:lnTo>
                  <a:lnTo>
                    <a:pt x="51794" y="1400"/>
                  </a:lnTo>
                  <a:close/>
                </a:path>
                <a:path fill="darkenLess" w="53194" h="21600">
                  <a:moveTo>
                    <a:pt x="531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1794" y="20200"/>
                  </a:lnTo>
                  <a:close/>
                </a:path>
                <a:path fill="lighten" w="531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6907320" y="2637000"/>
              <a:ext cx="1576440" cy="617400"/>
            </a:xfrm>
            <a:custGeom>
              <a:avLst/>
              <a:gdLst>
                <a:gd name="textAreaLeft" fmla="*/ 39960 w 1576440"/>
                <a:gd name="textAreaRight" fmla="*/ 1536480 w 157644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5133" h="21600">
                  <a:moveTo>
                    <a:pt x="0" y="0"/>
                  </a:moveTo>
                  <a:lnTo>
                    <a:pt x="55133" y="0"/>
                  </a:lnTo>
                  <a:lnTo>
                    <a:pt x="55133" y="21600"/>
                  </a:lnTo>
                  <a:lnTo>
                    <a:pt x="0" y="21600"/>
                  </a:lnTo>
                  <a:close/>
                </a:path>
                <a:path fill="lightenLess" w="55133" h="21600">
                  <a:moveTo>
                    <a:pt x="0" y="0"/>
                  </a:moveTo>
                  <a:lnTo>
                    <a:pt x="55133" y="0"/>
                  </a:lnTo>
                  <a:lnTo>
                    <a:pt x="53733" y="1400"/>
                  </a:lnTo>
                  <a:lnTo>
                    <a:pt x="1400" y="1400"/>
                  </a:lnTo>
                  <a:close/>
                </a:path>
                <a:path fill="darken" w="55133" h="21600">
                  <a:moveTo>
                    <a:pt x="55133" y="0"/>
                  </a:moveTo>
                  <a:lnTo>
                    <a:pt x="55133" y="21600"/>
                  </a:lnTo>
                  <a:lnTo>
                    <a:pt x="53733" y="20200"/>
                  </a:lnTo>
                  <a:lnTo>
                    <a:pt x="53733" y="1400"/>
                  </a:lnTo>
                  <a:close/>
                </a:path>
                <a:path fill="darkenLess" w="55133" h="21600">
                  <a:moveTo>
                    <a:pt x="5513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3733" y="20200"/>
                  </a:lnTo>
                  <a:close/>
                </a:path>
                <a:path fill="lighten" w="5513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644400" y="3343320"/>
              <a:ext cx="1425600" cy="617400"/>
            </a:xfrm>
            <a:custGeom>
              <a:avLst/>
              <a:gdLst>
                <a:gd name="textAreaLeft" fmla="*/ 39960 w 1425600"/>
                <a:gd name="textAreaRight" fmla="*/ 1385640 w 142560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49859" h="21600">
                  <a:moveTo>
                    <a:pt x="0" y="0"/>
                  </a:moveTo>
                  <a:lnTo>
                    <a:pt x="49859" y="0"/>
                  </a:lnTo>
                  <a:lnTo>
                    <a:pt x="49859" y="21600"/>
                  </a:lnTo>
                  <a:lnTo>
                    <a:pt x="0" y="21600"/>
                  </a:lnTo>
                  <a:close/>
                </a:path>
                <a:path fill="lightenLess" w="49859" h="21600">
                  <a:moveTo>
                    <a:pt x="0" y="0"/>
                  </a:moveTo>
                  <a:lnTo>
                    <a:pt x="49859" y="0"/>
                  </a:lnTo>
                  <a:lnTo>
                    <a:pt x="48459" y="1400"/>
                  </a:lnTo>
                  <a:lnTo>
                    <a:pt x="1400" y="1400"/>
                  </a:lnTo>
                  <a:close/>
                </a:path>
                <a:path fill="darken" w="49859" h="21600">
                  <a:moveTo>
                    <a:pt x="49859" y="0"/>
                  </a:moveTo>
                  <a:lnTo>
                    <a:pt x="49859" y="21600"/>
                  </a:lnTo>
                  <a:lnTo>
                    <a:pt x="48459" y="20200"/>
                  </a:lnTo>
                  <a:lnTo>
                    <a:pt x="48459" y="1400"/>
                  </a:lnTo>
                  <a:close/>
                </a:path>
                <a:path fill="darkenLess" w="49859" h="21600">
                  <a:moveTo>
                    <a:pt x="498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459" y="20200"/>
                  </a:lnTo>
                  <a:close/>
                </a:path>
                <a:path fill="lighten" w="498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68" name="AutoShape 14"/>
            <p:cNvSpPr/>
            <p:nvPr/>
          </p:nvSpPr>
          <p:spPr>
            <a:xfrm>
              <a:off x="2157480" y="3357720"/>
              <a:ext cx="1425600" cy="617400"/>
            </a:xfrm>
            <a:custGeom>
              <a:avLst/>
              <a:gdLst>
                <a:gd name="textAreaLeft" fmla="*/ 39960 w 1425600"/>
                <a:gd name="textAreaRight" fmla="*/ 1385640 w 142560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49859" h="21600">
                  <a:moveTo>
                    <a:pt x="0" y="0"/>
                  </a:moveTo>
                  <a:lnTo>
                    <a:pt x="49859" y="0"/>
                  </a:lnTo>
                  <a:lnTo>
                    <a:pt x="49859" y="21600"/>
                  </a:lnTo>
                  <a:lnTo>
                    <a:pt x="0" y="21600"/>
                  </a:lnTo>
                  <a:close/>
                </a:path>
                <a:path fill="lightenLess" w="49859" h="21600">
                  <a:moveTo>
                    <a:pt x="0" y="0"/>
                  </a:moveTo>
                  <a:lnTo>
                    <a:pt x="49859" y="0"/>
                  </a:lnTo>
                  <a:lnTo>
                    <a:pt x="48459" y="1400"/>
                  </a:lnTo>
                  <a:lnTo>
                    <a:pt x="1400" y="1400"/>
                  </a:lnTo>
                  <a:close/>
                </a:path>
                <a:path fill="darken" w="49859" h="21600">
                  <a:moveTo>
                    <a:pt x="49859" y="0"/>
                  </a:moveTo>
                  <a:lnTo>
                    <a:pt x="49859" y="21600"/>
                  </a:lnTo>
                  <a:lnTo>
                    <a:pt x="48459" y="20200"/>
                  </a:lnTo>
                  <a:lnTo>
                    <a:pt x="48459" y="1400"/>
                  </a:lnTo>
                  <a:close/>
                </a:path>
                <a:path fill="darkenLess" w="49859" h="21600">
                  <a:moveTo>
                    <a:pt x="498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459" y="20200"/>
                  </a:lnTo>
                  <a:close/>
                </a:path>
                <a:path fill="lighten" w="498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69" name="AutoShape 15"/>
            <p:cNvSpPr/>
            <p:nvPr/>
          </p:nvSpPr>
          <p:spPr>
            <a:xfrm>
              <a:off x="642960" y="4068720"/>
              <a:ext cx="1425600" cy="617760"/>
            </a:xfrm>
            <a:custGeom>
              <a:avLst/>
              <a:gdLst>
                <a:gd name="textAreaLeft" fmla="*/ 39960 w 1425600"/>
                <a:gd name="textAreaRight" fmla="*/ 1385640 w 1425600"/>
                <a:gd name="textAreaTop" fmla="*/ 39960 h 617760"/>
                <a:gd name="textAreaBottom" fmla="*/ 577800 h 617760"/>
              </a:gdLst>
              <a:ahLst/>
              <a:rect l="textAreaLeft" t="textAreaTop" r="textAreaRight" b="textAreaBottom"/>
              <a:pathLst>
                <a:path w="49830" h="21600">
                  <a:moveTo>
                    <a:pt x="0" y="0"/>
                  </a:moveTo>
                  <a:lnTo>
                    <a:pt x="49830" y="0"/>
                  </a:lnTo>
                  <a:lnTo>
                    <a:pt x="49830" y="21600"/>
                  </a:lnTo>
                  <a:lnTo>
                    <a:pt x="0" y="21600"/>
                  </a:lnTo>
                  <a:close/>
                </a:path>
                <a:path fill="lightenLess" w="49830" h="21600">
                  <a:moveTo>
                    <a:pt x="0" y="0"/>
                  </a:moveTo>
                  <a:lnTo>
                    <a:pt x="49830" y="0"/>
                  </a:lnTo>
                  <a:lnTo>
                    <a:pt x="48430" y="1400"/>
                  </a:lnTo>
                  <a:lnTo>
                    <a:pt x="1400" y="1400"/>
                  </a:lnTo>
                  <a:close/>
                </a:path>
                <a:path fill="darken" w="49830" h="21600">
                  <a:moveTo>
                    <a:pt x="49830" y="0"/>
                  </a:moveTo>
                  <a:lnTo>
                    <a:pt x="49830" y="21600"/>
                  </a:lnTo>
                  <a:lnTo>
                    <a:pt x="48430" y="20200"/>
                  </a:lnTo>
                  <a:lnTo>
                    <a:pt x="48430" y="1400"/>
                  </a:lnTo>
                  <a:close/>
                </a:path>
                <a:path fill="darkenLess" w="49830" h="21600">
                  <a:moveTo>
                    <a:pt x="4983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430" y="20200"/>
                  </a:lnTo>
                  <a:close/>
                </a:path>
                <a:path fill="lighten" w="4983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70" name="AutoShape 16"/>
            <p:cNvSpPr/>
            <p:nvPr/>
          </p:nvSpPr>
          <p:spPr>
            <a:xfrm>
              <a:off x="642960" y="4792680"/>
              <a:ext cx="1425600" cy="617400"/>
            </a:xfrm>
            <a:custGeom>
              <a:avLst/>
              <a:gdLst>
                <a:gd name="textAreaLeft" fmla="*/ 39960 w 1425600"/>
                <a:gd name="textAreaRight" fmla="*/ 1385640 w 142560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49859" h="21600">
                  <a:moveTo>
                    <a:pt x="0" y="0"/>
                  </a:moveTo>
                  <a:lnTo>
                    <a:pt x="49859" y="0"/>
                  </a:lnTo>
                  <a:lnTo>
                    <a:pt x="49859" y="21600"/>
                  </a:lnTo>
                  <a:lnTo>
                    <a:pt x="0" y="21600"/>
                  </a:lnTo>
                  <a:close/>
                </a:path>
                <a:path fill="lightenLess" w="49859" h="21600">
                  <a:moveTo>
                    <a:pt x="0" y="0"/>
                  </a:moveTo>
                  <a:lnTo>
                    <a:pt x="49859" y="0"/>
                  </a:lnTo>
                  <a:lnTo>
                    <a:pt x="48459" y="1400"/>
                  </a:lnTo>
                  <a:lnTo>
                    <a:pt x="1400" y="1400"/>
                  </a:lnTo>
                  <a:close/>
                </a:path>
                <a:path fill="darken" w="49859" h="21600">
                  <a:moveTo>
                    <a:pt x="49859" y="0"/>
                  </a:moveTo>
                  <a:lnTo>
                    <a:pt x="49859" y="21600"/>
                  </a:lnTo>
                  <a:lnTo>
                    <a:pt x="48459" y="20200"/>
                  </a:lnTo>
                  <a:lnTo>
                    <a:pt x="48459" y="1400"/>
                  </a:lnTo>
                  <a:close/>
                </a:path>
                <a:path fill="darkenLess" w="49859" h="21600">
                  <a:moveTo>
                    <a:pt x="498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459" y="20200"/>
                  </a:lnTo>
                  <a:close/>
                </a:path>
                <a:path fill="lighten" w="498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71" name="AutoShape 17"/>
            <p:cNvSpPr/>
            <p:nvPr/>
          </p:nvSpPr>
          <p:spPr>
            <a:xfrm>
              <a:off x="642960" y="5487840"/>
              <a:ext cx="1425600" cy="617760"/>
            </a:xfrm>
            <a:custGeom>
              <a:avLst/>
              <a:gdLst>
                <a:gd name="textAreaLeft" fmla="*/ 39960 w 1425600"/>
                <a:gd name="textAreaRight" fmla="*/ 1385640 w 1425600"/>
                <a:gd name="textAreaTop" fmla="*/ 39960 h 617760"/>
                <a:gd name="textAreaBottom" fmla="*/ 577800 h 617760"/>
              </a:gdLst>
              <a:ahLst/>
              <a:rect l="textAreaLeft" t="textAreaTop" r="textAreaRight" b="textAreaBottom"/>
              <a:pathLst>
                <a:path w="49830" h="21600">
                  <a:moveTo>
                    <a:pt x="0" y="0"/>
                  </a:moveTo>
                  <a:lnTo>
                    <a:pt x="49830" y="0"/>
                  </a:lnTo>
                  <a:lnTo>
                    <a:pt x="49830" y="21600"/>
                  </a:lnTo>
                  <a:lnTo>
                    <a:pt x="0" y="21600"/>
                  </a:lnTo>
                  <a:close/>
                </a:path>
                <a:path fill="lightenLess" w="49830" h="21600">
                  <a:moveTo>
                    <a:pt x="0" y="0"/>
                  </a:moveTo>
                  <a:lnTo>
                    <a:pt x="49830" y="0"/>
                  </a:lnTo>
                  <a:lnTo>
                    <a:pt x="48430" y="1400"/>
                  </a:lnTo>
                  <a:lnTo>
                    <a:pt x="1400" y="1400"/>
                  </a:lnTo>
                  <a:close/>
                </a:path>
                <a:path fill="darken" w="49830" h="21600">
                  <a:moveTo>
                    <a:pt x="49830" y="0"/>
                  </a:moveTo>
                  <a:lnTo>
                    <a:pt x="49830" y="21600"/>
                  </a:lnTo>
                  <a:lnTo>
                    <a:pt x="48430" y="20200"/>
                  </a:lnTo>
                  <a:lnTo>
                    <a:pt x="48430" y="1400"/>
                  </a:lnTo>
                  <a:close/>
                </a:path>
                <a:path fill="darkenLess" w="49830" h="21600">
                  <a:moveTo>
                    <a:pt x="4983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430" y="20200"/>
                  </a:lnTo>
                  <a:close/>
                </a:path>
                <a:path fill="lighten" w="4983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72" name="AutoShape 18"/>
            <p:cNvSpPr/>
            <p:nvPr/>
          </p:nvSpPr>
          <p:spPr>
            <a:xfrm>
              <a:off x="2146320" y="4056120"/>
              <a:ext cx="1425600" cy="617400"/>
            </a:xfrm>
            <a:custGeom>
              <a:avLst/>
              <a:gdLst>
                <a:gd name="textAreaLeft" fmla="*/ 39960 w 1425600"/>
                <a:gd name="textAreaRight" fmla="*/ 1385640 w 142560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49859" h="21600">
                  <a:moveTo>
                    <a:pt x="0" y="0"/>
                  </a:moveTo>
                  <a:lnTo>
                    <a:pt x="49859" y="0"/>
                  </a:lnTo>
                  <a:lnTo>
                    <a:pt x="49859" y="21600"/>
                  </a:lnTo>
                  <a:lnTo>
                    <a:pt x="0" y="21600"/>
                  </a:lnTo>
                  <a:close/>
                </a:path>
                <a:path fill="lightenLess" w="49859" h="21600">
                  <a:moveTo>
                    <a:pt x="0" y="0"/>
                  </a:moveTo>
                  <a:lnTo>
                    <a:pt x="49859" y="0"/>
                  </a:lnTo>
                  <a:lnTo>
                    <a:pt x="48459" y="1400"/>
                  </a:lnTo>
                  <a:lnTo>
                    <a:pt x="1400" y="1400"/>
                  </a:lnTo>
                  <a:close/>
                </a:path>
                <a:path fill="darken" w="49859" h="21600">
                  <a:moveTo>
                    <a:pt x="49859" y="0"/>
                  </a:moveTo>
                  <a:lnTo>
                    <a:pt x="49859" y="21600"/>
                  </a:lnTo>
                  <a:lnTo>
                    <a:pt x="48459" y="20200"/>
                  </a:lnTo>
                  <a:lnTo>
                    <a:pt x="48459" y="1400"/>
                  </a:lnTo>
                  <a:close/>
                </a:path>
                <a:path fill="darkenLess" w="49859" h="21600">
                  <a:moveTo>
                    <a:pt x="498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459" y="20200"/>
                  </a:lnTo>
                  <a:close/>
                </a:path>
                <a:path fill="lighten" w="498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73" name="AutoShape 19"/>
            <p:cNvSpPr/>
            <p:nvPr/>
          </p:nvSpPr>
          <p:spPr>
            <a:xfrm>
              <a:off x="2144880" y="4751280"/>
              <a:ext cx="1425240" cy="617760"/>
            </a:xfrm>
            <a:custGeom>
              <a:avLst/>
              <a:gdLst>
                <a:gd name="textAreaLeft" fmla="*/ 39960 w 1425240"/>
                <a:gd name="textAreaRight" fmla="*/ 1385280 w 1425240"/>
                <a:gd name="textAreaTop" fmla="*/ 39960 h 617760"/>
                <a:gd name="textAreaBottom" fmla="*/ 577800 h 617760"/>
              </a:gdLst>
              <a:ahLst/>
              <a:rect l="textAreaLeft" t="textAreaTop" r="textAreaRight" b="textAreaBottom"/>
              <a:pathLst>
                <a:path w="49817" h="21600">
                  <a:moveTo>
                    <a:pt x="0" y="0"/>
                  </a:moveTo>
                  <a:lnTo>
                    <a:pt x="49817" y="0"/>
                  </a:lnTo>
                  <a:lnTo>
                    <a:pt x="49817" y="21600"/>
                  </a:lnTo>
                  <a:lnTo>
                    <a:pt x="0" y="21600"/>
                  </a:lnTo>
                  <a:close/>
                </a:path>
                <a:path fill="lightenLess" w="49817" h="21600">
                  <a:moveTo>
                    <a:pt x="0" y="0"/>
                  </a:moveTo>
                  <a:lnTo>
                    <a:pt x="49817" y="0"/>
                  </a:lnTo>
                  <a:lnTo>
                    <a:pt x="48417" y="1400"/>
                  </a:lnTo>
                  <a:lnTo>
                    <a:pt x="1400" y="1400"/>
                  </a:lnTo>
                  <a:close/>
                </a:path>
                <a:path fill="darken" w="49817" h="21600">
                  <a:moveTo>
                    <a:pt x="49817" y="0"/>
                  </a:moveTo>
                  <a:lnTo>
                    <a:pt x="49817" y="21600"/>
                  </a:lnTo>
                  <a:lnTo>
                    <a:pt x="48417" y="20200"/>
                  </a:lnTo>
                  <a:lnTo>
                    <a:pt x="48417" y="1400"/>
                  </a:lnTo>
                  <a:close/>
                </a:path>
                <a:path fill="darkenLess" w="49817" h="21600">
                  <a:moveTo>
                    <a:pt x="49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417" y="20200"/>
                  </a:lnTo>
                  <a:close/>
                </a:path>
                <a:path fill="lighten" w="49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74" name="AutoShape 20"/>
            <p:cNvSpPr/>
            <p:nvPr/>
          </p:nvSpPr>
          <p:spPr>
            <a:xfrm>
              <a:off x="2157480" y="5460840"/>
              <a:ext cx="1425600" cy="617760"/>
            </a:xfrm>
            <a:custGeom>
              <a:avLst/>
              <a:gdLst>
                <a:gd name="textAreaLeft" fmla="*/ 39960 w 1425600"/>
                <a:gd name="textAreaRight" fmla="*/ 1385640 w 1425600"/>
                <a:gd name="textAreaTop" fmla="*/ 39960 h 617760"/>
                <a:gd name="textAreaBottom" fmla="*/ 577800 h 617760"/>
              </a:gdLst>
              <a:ahLst/>
              <a:rect l="textAreaLeft" t="textAreaTop" r="textAreaRight" b="textAreaBottom"/>
              <a:pathLst>
                <a:path w="49830" h="21600">
                  <a:moveTo>
                    <a:pt x="0" y="0"/>
                  </a:moveTo>
                  <a:lnTo>
                    <a:pt x="49830" y="0"/>
                  </a:lnTo>
                  <a:lnTo>
                    <a:pt x="49830" y="21600"/>
                  </a:lnTo>
                  <a:lnTo>
                    <a:pt x="0" y="21600"/>
                  </a:lnTo>
                  <a:close/>
                </a:path>
                <a:path fill="lightenLess" w="49830" h="21600">
                  <a:moveTo>
                    <a:pt x="0" y="0"/>
                  </a:moveTo>
                  <a:lnTo>
                    <a:pt x="49830" y="0"/>
                  </a:lnTo>
                  <a:lnTo>
                    <a:pt x="48430" y="1400"/>
                  </a:lnTo>
                  <a:lnTo>
                    <a:pt x="1400" y="1400"/>
                  </a:lnTo>
                  <a:close/>
                </a:path>
                <a:path fill="darken" w="49830" h="21600">
                  <a:moveTo>
                    <a:pt x="49830" y="0"/>
                  </a:moveTo>
                  <a:lnTo>
                    <a:pt x="49830" y="21600"/>
                  </a:lnTo>
                  <a:lnTo>
                    <a:pt x="48430" y="20200"/>
                  </a:lnTo>
                  <a:lnTo>
                    <a:pt x="48430" y="1400"/>
                  </a:lnTo>
                  <a:close/>
                </a:path>
                <a:path fill="darkenLess" w="49830" h="21600">
                  <a:moveTo>
                    <a:pt x="4983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430" y="20200"/>
                  </a:lnTo>
                  <a:close/>
                </a:path>
                <a:path fill="lighten" w="4983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75" name="AutoShape 21"/>
            <p:cNvSpPr/>
            <p:nvPr/>
          </p:nvSpPr>
          <p:spPr>
            <a:xfrm>
              <a:off x="3683160" y="3357720"/>
              <a:ext cx="1549080" cy="617400"/>
            </a:xfrm>
            <a:custGeom>
              <a:avLst/>
              <a:gdLst>
                <a:gd name="textAreaLeft" fmla="*/ 39960 w 1549080"/>
                <a:gd name="textAreaRight" fmla="*/ 1509120 w 154908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4176" h="21600">
                  <a:moveTo>
                    <a:pt x="0" y="0"/>
                  </a:moveTo>
                  <a:lnTo>
                    <a:pt x="54176" y="0"/>
                  </a:lnTo>
                  <a:lnTo>
                    <a:pt x="54176" y="21600"/>
                  </a:lnTo>
                  <a:lnTo>
                    <a:pt x="0" y="21600"/>
                  </a:lnTo>
                  <a:close/>
                </a:path>
                <a:path fill="lightenLess" w="54176" h="21600">
                  <a:moveTo>
                    <a:pt x="0" y="0"/>
                  </a:moveTo>
                  <a:lnTo>
                    <a:pt x="54176" y="0"/>
                  </a:lnTo>
                  <a:lnTo>
                    <a:pt x="52776" y="1400"/>
                  </a:lnTo>
                  <a:lnTo>
                    <a:pt x="1400" y="1400"/>
                  </a:lnTo>
                  <a:close/>
                </a:path>
                <a:path fill="darken" w="54176" h="21600">
                  <a:moveTo>
                    <a:pt x="54176" y="0"/>
                  </a:moveTo>
                  <a:lnTo>
                    <a:pt x="54176" y="21600"/>
                  </a:lnTo>
                  <a:lnTo>
                    <a:pt x="52776" y="20200"/>
                  </a:lnTo>
                  <a:lnTo>
                    <a:pt x="52776" y="1400"/>
                  </a:lnTo>
                  <a:close/>
                </a:path>
                <a:path fill="darkenLess" w="54176" h="21600">
                  <a:moveTo>
                    <a:pt x="5417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776" y="20200"/>
                  </a:lnTo>
                  <a:close/>
                </a:path>
                <a:path fill="lighten" w="5417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76" name="AutoShape 22"/>
            <p:cNvSpPr/>
            <p:nvPr/>
          </p:nvSpPr>
          <p:spPr>
            <a:xfrm>
              <a:off x="3678120" y="4057560"/>
              <a:ext cx="1549440" cy="617760"/>
            </a:xfrm>
            <a:custGeom>
              <a:avLst/>
              <a:gdLst>
                <a:gd name="textAreaLeft" fmla="*/ 39960 w 1549440"/>
                <a:gd name="textAreaRight" fmla="*/ 1509480 w 1549440"/>
                <a:gd name="textAreaTop" fmla="*/ 39960 h 617760"/>
                <a:gd name="textAreaBottom" fmla="*/ 577800 h 617760"/>
              </a:gdLst>
              <a:ahLst/>
              <a:rect l="textAreaLeft" t="textAreaTop" r="textAreaRight" b="textAreaBottom"/>
              <a:pathLst>
                <a:path w="54157" h="21600">
                  <a:moveTo>
                    <a:pt x="0" y="0"/>
                  </a:moveTo>
                  <a:lnTo>
                    <a:pt x="54157" y="0"/>
                  </a:lnTo>
                  <a:lnTo>
                    <a:pt x="54157" y="21600"/>
                  </a:lnTo>
                  <a:lnTo>
                    <a:pt x="0" y="21600"/>
                  </a:lnTo>
                  <a:close/>
                </a:path>
                <a:path fill="lightenLess" w="54157" h="21600">
                  <a:moveTo>
                    <a:pt x="0" y="0"/>
                  </a:moveTo>
                  <a:lnTo>
                    <a:pt x="54157" y="0"/>
                  </a:lnTo>
                  <a:lnTo>
                    <a:pt x="52757" y="1400"/>
                  </a:lnTo>
                  <a:lnTo>
                    <a:pt x="1400" y="1400"/>
                  </a:lnTo>
                  <a:close/>
                </a:path>
                <a:path fill="darken" w="54157" h="21600">
                  <a:moveTo>
                    <a:pt x="54157" y="0"/>
                  </a:moveTo>
                  <a:lnTo>
                    <a:pt x="54157" y="21600"/>
                  </a:lnTo>
                  <a:lnTo>
                    <a:pt x="52757" y="20200"/>
                  </a:lnTo>
                  <a:lnTo>
                    <a:pt x="52757" y="1400"/>
                  </a:lnTo>
                  <a:close/>
                </a:path>
                <a:path fill="darkenLess" w="54157" h="21600">
                  <a:moveTo>
                    <a:pt x="5415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757" y="20200"/>
                  </a:lnTo>
                  <a:close/>
                </a:path>
                <a:path fill="lighten" w="5415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77" name="AutoShape 23"/>
            <p:cNvSpPr/>
            <p:nvPr/>
          </p:nvSpPr>
          <p:spPr>
            <a:xfrm>
              <a:off x="3693960" y="4778280"/>
              <a:ext cx="1549440" cy="617760"/>
            </a:xfrm>
            <a:custGeom>
              <a:avLst/>
              <a:gdLst>
                <a:gd name="textAreaLeft" fmla="*/ 39960 w 1549440"/>
                <a:gd name="textAreaRight" fmla="*/ 1509480 w 1549440"/>
                <a:gd name="textAreaTop" fmla="*/ 39960 h 617760"/>
                <a:gd name="textAreaBottom" fmla="*/ 577800 h 617760"/>
              </a:gdLst>
              <a:ahLst/>
              <a:rect l="textAreaLeft" t="textAreaTop" r="textAreaRight" b="textAreaBottom"/>
              <a:pathLst>
                <a:path w="54157" h="21600">
                  <a:moveTo>
                    <a:pt x="0" y="0"/>
                  </a:moveTo>
                  <a:lnTo>
                    <a:pt x="54157" y="0"/>
                  </a:lnTo>
                  <a:lnTo>
                    <a:pt x="54157" y="21600"/>
                  </a:lnTo>
                  <a:lnTo>
                    <a:pt x="0" y="21600"/>
                  </a:lnTo>
                  <a:close/>
                </a:path>
                <a:path fill="lightenLess" w="54157" h="21600">
                  <a:moveTo>
                    <a:pt x="0" y="0"/>
                  </a:moveTo>
                  <a:lnTo>
                    <a:pt x="54157" y="0"/>
                  </a:lnTo>
                  <a:lnTo>
                    <a:pt x="52757" y="1400"/>
                  </a:lnTo>
                  <a:lnTo>
                    <a:pt x="1400" y="1400"/>
                  </a:lnTo>
                  <a:close/>
                </a:path>
                <a:path fill="darken" w="54157" h="21600">
                  <a:moveTo>
                    <a:pt x="54157" y="0"/>
                  </a:moveTo>
                  <a:lnTo>
                    <a:pt x="54157" y="21600"/>
                  </a:lnTo>
                  <a:lnTo>
                    <a:pt x="52757" y="20200"/>
                  </a:lnTo>
                  <a:lnTo>
                    <a:pt x="52757" y="1400"/>
                  </a:lnTo>
                  <a:close/>
                </a:path>
                <a:path fill="darkenLess" w="54157" h="21600">
                  <a:moveTo>
                    <a:pt x="5415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757" y="20200"/>
                  </a:lnTo>
                  <a:close/>
                </a:path>
                <a:path fill="lighten" w="5415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78" name="AutoShape 24"/>
            <p:cNvSpPr/>
            <p:nvPr/>
          </p:nvSpPr>
          <p:spPr>
            <a:xfrm>
              <a:off x="3695760" y="5478480"/>
              <a:ext cx="1549440" cy="617400"/>
            </a:xfrm>
            <a:custGeom>
              <a:avLst/>
              <a:gdLst>
                <a:gd name="textAreaLeft" fmla="*/ 39960 w 1549440"/>
                <a:gd name="textAreaRight" fmla="*/ 1509480 w 154944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4189" h="21600">
                  <a:moveTo>
                    <a:pt x="0" y="0"/>
                  </a:moveTo>
                  <a:lnTo>
                    <a:pt x="54189" y="0"/>
                  </a:lnTo>
                  <a:lnTo>
                    <a:pt x="54189" y="21600"/>
                  </a:lnTo>
                  <a:lnTo>
                    <a:pt x="0" y="21600"/>
                  </a:lnTo>
                  <a:close/>
                </a:path>
                <a:path fill="lightenLess" w="54189" h="21600">
                  <a:moveTo>
                    <a:pt x="0" y="0"/>
                  </a:moveTo>
                  <a:lnTo>
                    <a:pt x="54189" y="0"/>
                  </a:lnTo>
                  <a:lnTo>
                    <a:pt x="52789" y="1400"/>
                  </a:lnTo>
                  <a:lnTo>
                    <a:pt x="1400" y="1400"/>
                  </a:lnTo>
                  <a:close/>
                </a:path>
                <a:path fill="darken" w="54189" h="21600">
                  <a:moveTo>
                    <a:pt x="54189" y="0"/>
                  </a:moveTo>
                  <a:lnTo>
                    <a:pt x="54189" y="21600"/>
                  </a:lnTo>
                  <a:lnTo>
                    <a:pt x="52789" y="20200"/>
                  </a:lnTo>
                  <a:lnTo>
                    <a:pt x="52789" y="1400"/>
                  </a:lnTo>
                  <a:close/>
                </a:path>
                <a:path fill="darkenLess" w="54189" h="21600">
                  <a:moveTo>
                    <a:pt x="541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789" y="20200"/>
                  </a:lnTo>
                  <a:close/>
                </a:path>
                <a:path fill="lighten" w="541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79" name="AutoShape 25"/>
            <p:cNvSpPr/>
            <p:nvPr/>
          </p:nvSpPr>
          <p:spPr>
            <a:xfrm>
              <a:off x="5327640" y="3362400"/>
              <a:ext cx="1521000" cy="617400"/>
            </a:xfrm>
            <a:custGeom>
              <a:avLst/>
              <a:gdLst>
                <a:gd name="textAreaLeft" fmla="*/ 39960 w 1521000"/>
                <a:gd name="textAreaRight" fmla="*/ 1481040 w 152100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3194" h="21600">
                  <a:moveTo>
                    <a:pt x="0" y="0"/>
                  </a:moveTo>
                  <a:lnTo>
                    <a:pt x="53194" y="0"/>
                  </a:lnTo>
                  <a:lnTo>
                    <a:pt x="53194" y="21600"/>
                  </a:lnTo>
                  <a:lnTo>
                    <a:pt x="0" y="21600"/>
                  </a:lnTo>
                  <a:close/>
                </a:path>
                <a:path fill="lightenLess" w="53194" h="21600">
                  <a:moveTo>
                    <a:pt x="0" y="0"/>
                  </a:moveTo>
                  <a:lnTo>
                    <a:pt x="53194" y="0"/>
                  </a:lnTo>
                  <a:lnTo>
                    <a:pt x="51794" y="1400"/>
                  </a:lnTo>
                  <a:lnTo>
                    <a:pt x="1400" y="1400"/>
                  </a:lnTo>
                  <a:close/>
                </a:path>
                <a:path fill="darken" w="53194" h="21600">
                  <a:moveTo>
                    <a:pt x="53194" y="0"/>
                  </a:moveTo>
                  <a:lnTo>
                    <a:pt x="53194" y="21600"/>
                  </a:lnTo>
                  <a:lnTo>
                    <a:pt x="51794" y="20200"/>
                  </a:lnTo>
                  <a:lnTo>
                    <a:pt x="51794" y="1400"/>
                  </a:lnTo>
                  <a:close/>
                </a:path>
                <a:path fill="darkenLess" w="53194" h="21600">
                  <a:moveTo>
                    <a:pt x="531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1794" y="20200"/>
                  </a:lnTo>
                  <a:close/>
                </a:path>
                <a:path fill="lighten" w="531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80" name="AutoShape 26"/>
            <p:cNvSpPr/>
            <p:nvPr/>
          </p:nvSpPr>
          <p:spPr>
            <a:xfrm>
              <a:off x="5313240" y="4044960"/>
              <a:ext cx="1521000" cy="617400"/>
            </a:xfrm>
            <a:custGeom>
              <a:avLst/>
              <a:gdLst>
                <a:gd name="textAreaLeft" fmla="*/ 39960 w 1521000"/>
                <a:gd name="textAreaRight" fmla="*/ 1481040 w 152100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3194" h="21600">
                  <a:moveTo>
                    <a:pt x="0" y="0"/>
                  </a:moveTo>
                  <a:lnTo>
                    <a:pt x="53194" y="0"/>
                  </a:lnTo>
                  <a:lnTo>
                    <a:pt x="53194" y="21600"/>
                  </a:lnTo>
                  <a:lnTo>
                    <a:pt x="0" y="21600"/>
                  </a:lnTo>
                  <a:close/>
                </a:path>
                <a:path fill="lightenLess" w="53194" h="21600">
                  <a:moveTo>
                    <a:pt x="0" y="0"/>
                  </a:moveTo>
                  <a:lnTo>
                    <a:pt x="53194" y="0"/>
                  </a:lnTo>
                  <a:lnTo>
                    <a:pt x="51794" y="1400"/>
                  </a:lnTo>
                  <a:lnTo>
                    <a:pt x="1400" y="1400"/>
                  </a:lnTo>
                  <a:close/>
                </a:path>
                <a:path fill="darken" w="53194" h="21600">
                  <a:moveTo>
                    <a:pt x="53194" y="0"/>
                  </a:moveTo>
                  <a:lnTo>
                    <a:pt x="53194" y="21600"/>
                  </a:lnTo>
                  <a:lnTo>
                    <a:pt x="51794" y="20200"/>
                  </a:lnTo>
                  <a:lnTo>
                    <a:pt x="51794" y="1400"/>
                  </a:lnTo>
                  <a:close/>
                </a:path>
                <a:path fill="darkenLess" w="53194" h="21600">
                  <a:moveTo>
                    <a:pt x="531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1794" y="20200"/>
                  </a:lnTo>
                  <a:close/>
                </a:path>
                <a:path fill="lighten" w="531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81" name="AutoShape 27"/>
            <p:cNvSpPr/>
            <p:nvPr/>
          </p:nvSpPr>
          <p:spPr>
            <a:xfrm>
              <a:off x="5316480" y="4782960"/>
              <a:ext cx="1521000" cy="617760"/>
            </a:xfrm>
            <a:custGeom>
              <a:avLst/>
              <a:gdLst>
                <a:gd name="textAreaLeft" fmla="*/ 39960 w 1521000"/>
                <a:gd name="textAreaRight" fmla="*/ 1481040 w 1521000"/>
                <a:gd name="textAreaTop" fmla="*/ 39960 h 617760"/>
                <a:gd name="textAreaBottom" fmla="*/ 577800 h 617760"/>
              </a:gdLst>
              <a:ahLst/>
              <a:rect l="textAreaLeft" t="textAreaTop" r="textAreaRight" b="textAreaBottom"/>
              <a:pathLst>
                <a:path w="53163" h="21600">
                  <a:moveTo>
                    <a:pt x="0" y="0"/>
                  </a:moveTo>
                  <a:lnTo>
                    <a:pt x="53163" y="0"/>
                  </a:lnTo>
                  <a:lnTo>
                    <a:pt x="53163" y="21600"/>
                  </a:lnTo>
                  <a:lnTo>
                    <a:pt x="0" y="21600"/>
                  </a:lnTo>
                  <a:close/>
                </a:path>
                <a:path fill="lightenLess" w="53163" h="21600">
                  <a:moveTo>
                    <a:pt x="0" y="0"/>
                  </a:moveTo>
                  <a:lnTo>
                    <a:pt x="53163" y="0"/>
                  </a:lnTo>
                  <a:lnTo>
                    <a:pt x="51763" y="1400"/>
                  </a:lnTo>
                  <a:lnTo>
                    <a:pt x="1400" y="1400"/>
                  </a:lnTo>
                  <a:close/>
                </a:path>
                <a:path fill="darken" w="53163" h="21600">
                  <a:moveTo>
                    <a:pt x="53163" y="0"/>
                  </a:moveTo>
                  <a:lnTo>
                    <a:pt x="53163" y="21600"/>
                  </a:lnTo>
                  <a:lnTo>
                    <a:pt x="51763" y="20200"/>
                  </a:lnTo>
                  <a:lnTo>
                    <a:pt x="51763" y="1400"/>
                  </a:lnTo>
                  <a:close/>
                </a:path>
                <a:path fill="darkenLess" w="53163" h="21600">
                  <a:moveTo>
                    <a:pt x="5316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1763" y="20200"/>
                  </a:lnTo>
                  <a:close/>
                </a:path>
                <a:path fill="lighten" w="5316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82" name="AutoShape 28"/>
            <p:cNvSpPr/>
            <p:nvPr/>
          </p:nvSpPr>
          <p:spPr>
            <a:xfrm>
              <a:off x="5329080" y="5465880"/>
              <a:ext cx="1521000" cy="617400"/>
            </a:xfrm>
            <a:custGeom>
              <a:avLst/>
              <a:gdLst>
                <a:gd name="textAreaLeft" fmla="*/ 39960 w 1521000"/>
                <a:gd name="textAreaRight" fmla="*/ 1481040 w 152100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3194" h="21600">
                  <a:moveTo>
                    <a:pt x="0" y="0"/>
                  </a:moveTo>
                  <a:lnTo>
                    <a:pt x="53194" y="0"/>
                  </a:lnTo>
                  <a:lnTo>
                    <a:pt x="53194" y="21600"/>
                  </a:lnTo>
                  <a:lnTo>
                    <a:pt x="0" y="21600"/>
                  </a:lnTo>
                  <a:close/>
                </a:path>
                <a:path fill="lightenLess" w="53194" h="21600">
                  <a:moveTo>
                    <a:pt x="0" y="0"/>
                  </a:moveTo>
                  <a:lnTo>
                    <a:pt x="53194" y="0"/>
                  </a:lnTo>
                  <a:lnTo>
                    <a:pt x="51794" y="1400"/>
                  </a:lnTo>
                  <a:lnTo>
                    <a:pt x="1400" y="1400"/>
                  </a:lnTo>
                  <a:close/>
                </a:path>
                <a:path fill="darken" w="53194" h="21600">
                  <a:moveTo>
                    <a:pt x="53194" y="0"/>
                  </a:moveTo>
                  <a:lnTo>
                    <a:pt x="53194" y="21600"/>
                  </a:lnTo>
                  <a:lnTo>
                    <a:pt x="51794" y="20200"/>
                  </a:lnTo>
                  <a:lnTo>
                    <a:pt x="51794" y="1400"/>
                  </a:lnTo>
                  <a:close/>
                </a:path>
                <a:path fill="darkenLess" w="53194" h="21600">
                  <a:moveTo>
                    <a:pt x="531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1794" y="20200"/>
                  </a:lnTo>
                  <a:close/>
                </a:path>
                <a:path fill="lighten" w="531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83" name="AutoShape 29"/>
            <p:cNvSpPr/>
            <p:nvPr/>
          </p:nvSpPr>
          <p:spPr>
            <a:xfrm>
              <a:off x="6910560" y="4071960"/>
              <a:ext cx="1576080" cy="617400"/>
            </a:xfrm>
            <a:custGeom>
              <a:avLst/>
              <a:gdLst>
                <a:gd name="textAreaLeft" fmla="*/ 39960 w 1576080"/>
                <a:gd name="textAreaRight" fmla="*/ 1536120 w 157608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5120" h="21600">
                  <a:moveTo>
                    <a:pt x="0" y="0"/>
                  </a:moveTo>
                  <a:lnTo>
                    <a:pt x="55120" y="0"/>
                  </a:lnTo>
                  <a:lnTo>
                    <a:pt x="55120" y="21600"/>
                  </a:lnTo>
                  <a:lnTo>
                    <a:pt x="0" y="21600"/>
                  </a:lnTo>
                  <a:close/>
                </a:path>
                <a:path fill="lightenLess" w="55120" h="21600">
                  <a:moveTo>
                    <a:pt x="0" y="0"/>
                  </a:moveTo>
                  <a:lnTo>
                    <a:pt x="55120" y="0"/>
                  </a:lnTo>
                  <a:lnTo>
                    <a:pt x="53720" y="1400"/>
                  </a:lnTo>
                  <a:lnTo>
                    <a:pt x="1400" y="1400"/>
                  </a:lnTo>
                  <a:close/>
                </a:path>
                <a:path fill="darken" w="55120" h="21600">
                  <a:moveTo>
                    <a:pt x="55120" y="0"/>
                  </a:moveTo>
                  <a:lnTo>
                    <a:pt x="55120" y="21600"/>
                  </a:lnTo>
                  <a:lnTo>
                    <a:pt x="53720" y="20200"/>
                  </a:lnTo>
                  <a:lnTo>
                    <a:pt x="53720" y="1400"/>
                  </a:lnTo>
                  <a:close/>
                </a:path>
                <a:path fill="darkenLess" w="55120" h="21600">
                  <a:moveTo>
                    <a:pt x="5512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3720" y="20200"/>
                  </a:lnTo>
                  <a:close/>
                </a:path>
                <a:path fill="lighten" w="5512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84" name="AutoShape 30"/>
            <p:cNvSpPr/>
            <p:nvPr/>
          </p:nvSpPr>
          <p:spPr>
            <a:xfrm>
              <a:off x="6939000" y="3343320"/>
              <a:ext cx="1576440" cy="617400"/>
            </a:xfrm>
            <a:custGeom>
              <a:avLst/>
              <a:gdLst>
                <a:gd name="textAreaLeft" fmla="*/ 39960 w 1576440"/>
                <a:gd name="textAreaRight" fmla="*/ 1536480 w 157644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5133" h="21600">
                  <a:moveTo>
                    <a:pt x="0" y="0"/>
                  </a:moveTo>
                  <a:lnTo>
                    <a:pt x="55133" y="0"/>
                  </a:lnTo>
                  <a:lnTo>
                    <a:pt x="55133" y="21600"/>
                  </a:lnTo>
                  <a:lnTo>
                    <a:pt x="0" y="21600"/>
                  </a:lnTo>
                  <a:close/>
                </a:path>
                <a:path fill="lightenLess" w="55133" h="21600">
                  <a:moveTo>
                    <a:pt x="0" y="0"/>
                  </a:moveTo>
                  <a:lnTo>
                    <a:pt x="55133" y="0"/>
                  </a:lnTo>
                  <a:lnTo>
                    <a:pt x="53733" y="1400"/>
                  </a:lnTo>
                  <a:lnTo>
                    <a:pt x="1400" y="1400"/>
                  </a:lnTo>
                  <a:close/>
                </a:path>
                <a:path fill="darken" w="55133" h="21600">
                  <a:moveTo>
                    <a:pt x="55133" y="0"/>
                  </a:moveTo>
                  <a:lnTo>
                    <a:pt x="55133" y="21600"/>
                  </a:lnTo>
                  <a:lnTo>
                    <a:pt x="53733" y="20200"/>
                  </a:lnTo>
                  <a:lnTo>
                    <a:pt x="53733" y="1400"/>
                  </a:lnTo>
                  <a:close/>
                </a:path>
                <a:path fill="darkenLess" w="55133" h="21600">
                  <a:moveTo>
                    <a:pt x="5513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3733" y="20200"/>
                  </a:lnTo>
                  <a:close/>
                </a:path>
                <a:path fill="lighten" w="5513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>
              <a:off x="6923160" y="4741920"/>
              <a:ext cx="1576440" cy="617400"/>
            </a:xfrm>
            <a:custGeom>
              <a:avLst/>
              <a:gdLst>
                <a:gd name="textAreaLeft" fmla="*/ 39960 w 1576440"/>
                <a:gd name="textAreaRight" fmla="*/ 1536480 w 157644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5133" h="21600">
                  <a:moveTo>
                    <a:pt x="0" y="0"/>
                  </a:moveTo>
                  <a:lnTo>
                    <a:pt x="55133" y="0"/>
                  </a:lnTo>
                  <a:lnTo>
                    <a:pt x="55133" y="21600"/>
                  </a:lnTo>
                  <a:lnTo>
                    <a:pt x="0" y="21600"/>
                  </a:lnTo>
                  <a:close/>
                </a:path>
                <a:path fill="lightenLess" w="55133" h="21600">
                  <a:moveTo>
                    <a:pt x="0" y="0"/>
                  </a:moveTo>
                  <a:lnTo>
                    <a:pt x="55133" y="0"/>
                  </a:lnTo>
                  <a:lnTo>
                    <a:pt x="53733" y="1400"/>
                  </a:lnTo>
                  <a:lnTo>
                    <a:pt x="1400" y="1400"/>
                  </a:lnTo>
                  <a:close/>
                </a:path>
                <a:path fill="darken" w="55133" h="21600">
                  <a:moveTo>
                    <a:pt x="55133" y="0"/>
                  </a:moveTo>
                  <a:lnTo>
                    <a:pt x="55133" y="21600"/>
                  </a:lnTo>
                  <a:lnTo>
                    <a:pt x="53733" y="20200"/>
                  </a:lnTo>
                  <a:lnTo>
                    <a:pt x="53733" y="1400"/>
                  </a:lnTo>
                  <a:close/>
                </a:path>
                <a:path fill="darkenLess" w="55133" h="21600">
                  <a:moveTo>
                    <a:pt x="5513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3733" y="20200"/>
                  </a:lnTo>
                  <a:close/>
                </a:path>
                <a:path fill="lighten" w="5513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86" name="AutoShape 32"/>
            <p:cNvSpPr/>
            <p:nvPr/>
          </p:nvSpPr>
          <p:spPr>
            <a:xfrm>
              <a:off x="6923160" y="5478480"/>
              <a:ext cx="1576440" cy="617400"/>
            </a:xfrm>
            <a:custGeom>
              <a:avLst/>
              <a:gdLst>
                <a:gd name="textAreaLeft" fmla="*/ 39960 w 1576440"/>
                <a:gd name="textAreaRight" fmla="*/ 1536480 w 157644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5133" h="21600">
                  <a:moveTo>
                    <a:pt x="0" y="0"/>
                  </a:moveTo>
                  <a:lnTo>
                    <a:pt x="55133" y="0"/>
                  </a:lnTo>
                  <a:lnTo>
                    <a:pt x="55133" y="21600"/>
                  </a:lnTo>
                  <a:lnTo>
                    <a:pt x="0" y="21600"/>
                  </a:lnTo>
                  <a:close/>
                </a:path>
                <a:path fill="lightenLess" w="55133" h="21600">
                  <a:moveTo>
                    <a:pt x="0" y="0"/>
                  </a:moveTo>
                  <a:lnTo>
                    <a:pt x="55133" y="0"/>
                  </a:lnTo>
                  <a:lnTo>
                    <a:pt x="53733" y="1400"/>
                  </a:lnTo>
                  <a:lnTo>
                    <a:pt x="1400" y="1400"/>
                  </a:lnTo>
                  <a:close/>
                </a:path>
                <a:path fill="darken" w="55133" h="21600">
                  <a:moveTo>
                    <a:pt x="55133" y="0"/>
                  </a:moveTo>
                  <a:lnTo>
                    <a:pt x="55133" y="21600"/>
                  </a:lnTo>
                  <a:lnTo>
                    <a:pt x="53733" y="20200"/>
                  </a:lnTo>
                  <a:lnTo>
                    <a:pt x="53733" y="1400"/>
                  </a:lnTo>
                  <a:close/>
                </a:path>
                <a:path fill="darkenLess" w="55133" h="21600">
                  <a:moveTo>
                    <a:pt x="5513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3733" y="20200"/>
                  </a:lnTo>
                  <a:close/>
                </a:path>
                <a:path fill="lighten" w="5513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</p:grpSp>
      <p:sp>
        <p:nvSpPr>
          <p:cNvPr id="87" name="Oval 33"/>
          <p:cNvSpPr/>
          <p:nvPr/>
        </p:nvSpPr>
        <p:spPr>
          <a:xfrm>
            <a:off x="7381800" y="6207120"/>
            <a:ext cx="1762200" cy="622440"/>
          </a:xfrm>
          <a:prstGeom prst="ellipse">
            <a:avLst/>
          </a:prstGeom>
          <a:solidFill>
            <a:srgbClr val="0000cc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Group 35"/>
          <p:cNvGrpSpPr/>
          <p:nvPr/>
        </p:nvGrpSpPr>
        <p:grpSpPr>
          <a:xfrm>
            <a:off x="600120" y="1674720"/>
            <a:ext cx="7942320" cy="4479840"/>
            <a:chOff x="600120" y="1674720"/>
            <a:chExt cx="7942320" cy="4479840"/>
          </a:xfrm>
        </p:grpSpPr>
        <p:grpSp>
          <p:nvGrpSpPr>
            <p:cNvPr id="90" name="Group 36"/>
            <p:cNvGrpSpPr/>
            <p:nvPr/>
          </p:nvGrpSpPr>
          <p:grpSpPr>
            <a:xfrm>
              <a:off x="604440" y="1678680"/>
              <a:ext cx="7933320" cy="4471560"/>
              <a:chOff x="604440" y="1678680"/>
              <a:chExt cx="7933320" cy="4471560"/>
            </a:xfrm>
          </p:grpSpPr>
          <p:grpSp>
            <p:nvGrpSpPr>
              <p:cNvPr id="91" name="Group 37"/>
              <p:cNvGrpSpPr/>
              <p:nvPr/>
            </p:nvGrpSpPr>
            <p:grpSpPr>
              <a:xfrm>
                <a:off x="604440" y="1678680"/>
                <a:ext cx="1497240" cy="912960"/>
                <a:chOff x="604440" y="1678680"/>
                <a:chExt cx="1497240" cy="912960"/>
              </a:xfrm>
            </p:grpSpPr>
            <p:sp>
              <p:nvSpPr>
                <p:cNvPr id="92" name="Rectangle 38"/>
                <p:cNvSpPr/>
                <p:nvPr/>
              </p:nvSpPr>
              <p:spPr>
                <a:xfrm>
                  <a:off x="613080" y="1686600"/>
                  <a:ext cx="1479600" cy="9046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Arial"/>
                      <a:ea typeface="Arial"/>
                    </a:rPr>
                    <a:t>SCIENCE</a:t>
                  </a:r>
                  <a:endParaRPr b="0" lang="en-US" sz="20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93" name="Rectangle 39"/>
                <p:cNvSpPr/>
                <p:nvPr/>
              </p:nvSpPr>
              <p:spPr>
                <a:xfrm>
                  <a:off x="604440" y="1678680"/>
                  <a:ext cx="1497240" cy="91296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94" name="Group 40"/>
              <p:cNvGrpSpPr/>
              <p:nvPr/>
            </p:nvGrpSpPr>
            <p:grpSpPr>
              <a:xfrm>
                <a:off x="2101680" y="1678680"/>
                <a:ext cx="1533960" cy="912960"/>
                <a:chOff x="2101680" y="1678680"/>
                <a:chExt cx="1533960" cy="912960"/>
              </a:xfrm>
            </p:grpSpPr>
            <p:sp>
              <p:nvSpPr>
                <p:cNvPr id="95" name="Rectangle 41"/>
                <p:cNvSpPr/>
                <p:nvPr/>
              </p:nvSpPr>
              <p:spPr>
                <a:xfrm>
                  <a:off x="2110320" y="1686600"/>
                  <a:ext cx="1516320" cy="9046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Arial"/>
                      <a:ea typeface="Arial"/>
                    </a:rPr>
                    <a:t>MOVIES</a:t>
                  </a:r>
                  <a:endParaRPr b="0" lang="en-US" sz="20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96" name="Rectangle 42"/>
                <p:cNvSpPr/>
                <p:nvPr/>
              </p:nvSpPr>
              <p:spPr>
                <a:xfrm>
                  <a:off x="2101680" y="1678680"/>
                  <a:ext cx="1533960" cy="91296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97" name="Group 43"/>
              <p:cNvGrpSpPr/>
              <p:nvPr/>
            </p:nvGrpSpPr>
            <p:grpSpPr>
              <a:xfrm>
                <a:off x="3636000" y="1678680"/>
                <a:ext cx="1642680" cy="912960"/>
                <a:chOff x="3636000" y="1678680"/>
                <a:chExt cx="1642680" cy="912960"/>
              </a:xfrm>
            </p:grpSpPr>
            <p:sp>
              <p:nvSpPr>
                <p:cNvPr id="98" name="Rectangle 44"/>
                <p:cNvSpPr/>
                <p:nvPr/>
              </p:nvSpPr>
              <p:spPr>
                <a:xfrm>
                  <a:off x="3644640" y="1686600"/>
                  <a:ext cx="1624680" cy="9046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Arial"/>
                      <a:ea typeface="Arial"/>
                    </a:rPr>
                    <a:t>MUSIC</a:t>
                  </a:r>
                  <a:endParaRPr b="0" lang="en-US" sz="20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99" name="Rectangle 45"/>
                <p:cNvSpPr/>
                <p:nvPr/>
              </p:nvSpPr>
              <p:spPr>
                <a:xfrm>
                  <a:off x="3636000" y="1678680"/>
                  <a:ext cx="1642680" cy="91296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00" name="Group 46"/>
              <p:cNvGrpSpPr/>
              <p:nvPr/>
            </p:nvGrpSpPr>
            <p:grpSpPr>
              <a:xfrm>
                <a:off x="5279040" y="1678680"/>
                <a:ext cx="1607040" cy="912960"/>
                <a:chOff x="5279040" y="1678680"/>
                <a:chExt cx="1607040" cy="912960"/>
              </a:xfrm>
            </p:grpSpPr>
            <p:sp>
              <p:nvSpPr>
                <p:cNvPr id="101" name="Rectangle 47"/>
                <p:cNvSpPr/>
                <p:nvPr/>
              </p:nvSpPr>
              <p:spPr>
                <a:xfrm>
                  <a:off x="5287680" y="1686600"/>
                  <a:ext cx="1589400" cy="9046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Arial"/>
                      <a:ea typeface="Arial"/>
                    </a:rPr>
                    <a:t>SPORTS</a:t>
                  </a:r>
                  <a:endParaRPr b="0" lang="en-US" sz="20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02" name="Rectangle 48"/>
                <p:cNvSpPr/>
                <p:nvPr/>
              </p:nvSpPr>
              <p:spPr>
                <a:xfrm>
                  <a:off x="5279040" y="1678680"/>
                  <a:ext cx="1607040" cy="91296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03" name="Group 49"/>
              <p:cNvGrpSpPr/>
              <p:nvPr/>
            </p:nvGrpSpPr>
            <p:grpSpPr>
              <a:xfrm>
                <a:off x="6886440" y="1678680"/>
                <a:ext cx="1651320" cy="920880"/>
                <a:chOff x="6886440" y="1678680"/>
                <a:chExt cx="1651320" cy="920880"/>
              </a:xfrm>
            </p:grpSpPr>
            <p:sp>
              <p:nvSpPr>
                <p:cNvPr id="104" name="Rectangle 50"/>
                <p:cNvSpPr/>
                <p:nvPr/>
              </p:nvSpPr>
              <p:spPr>
                <a:xfrm>
                  <a:off x="6886440" y="1678680"/>
                  <a:ext cx="1651320" cy="9208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POT-POURRI</a:t>
                  </a:r>
                  <a:r>
                    <a:rPr b="0" lang="en-US" sz="2400" spc="-1" strike="noStrike">
                      <a:solidFill>
                        <a:srgbClr val="ffff00"/>
                      </a:solidFill>
                      <a:latin typeface="Gyparody"/>
                    </a:rPr>
                    <a:t> 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05" name="Rectangle 51"/>
                <p:cNvSpPr/>
                <p:nvPr/>
              </p:nvSpPr>
              <p:spPr>
                <a:xfrm>
                  <a:off x="6886440" y="1678680"/>
                  <a:ext cx="1651320" cy="9208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06" name="Group 52"/>
              <p:cNvGrpSpPr/>
              <p:nvPr/>
            </p:nvGrpSpPr>
            <p:grpSpPr>
              <a:xfrm>
                <a:off x="604440" y="2599560"/>
                <a:ext cx="1497240" cy="701640"/>
                <a:chOff x="604440" y="2599560"/>
                <a:chExt cx="1497240" cy="701640"/>
              </a:xfrm>
            </p:grpSpPr>
            <p:sp>
              <p:nvSpPr>
                <p:cNvPr id="107" name="Rectangle 53"/>
                <p:cNvSpPr/>
                <p:nvPr/>
              </p:nvSpPr>
              <p:spPr>
                <a:xfrm>
                  <a:off x="613080" y="2607840"/>
                  <a:ext cx="147960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cc99"/>
                      </a:solidFill>
                      <a:latin typeface="Arial"/>
                      <a:ea typeface="Arial"/>
                    </a:rPr>
                    <a:t>2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08" name="Rectangle 54"/>
                <p:cNvSpPr/>
                <p:nvPr/>
              </p:nvSpPr>
              <p:spPr>
                <a:xfrm>
                  <a:off x="604440" y="2599560"/>
                  <a:ext cx="149724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09" name="Group 55"/>
              <p:cNvGrpSpPr/>
              <p:nvPr/>
            </p:nvGrpSpPr>
            <p:grpSpPr>
              <a:xfrm>
                <a:off x="2101680" y="2599560"/>
                <a:ext cx="1533960" cy="701640"/>
                <a:chOff x="2101680" y="2599560"/>
                <a:chExt cx="1533960" cy="701640"/>
              </a:xfrm>
            </p:grpSpPr>
            <p:sp>
              <p:nvSpPr>
                <p:cNvPr id="110" name="Rectangle 56"/>
                <p:cNvSpPr/>
                <p:nvPr/>
              </p:nvSpPr>
              <p:spPr>
                <a:xfrm>
                  <a:off x="2110320" y="2607840"/>
                  <a:ext cx="151632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" action="ppaction://hlinksldjump"/>
                    </a:rPr>
                    <a:t>2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11" name="Rectangle 57"/>
                <p:cNvSpPr/>
                <p:nvPr/>
              </p:nvSpPr>
              <p:spPr>
                <a:xfrm>
                  <a:off x="2101680" y="2599560"/>
                  <a:ext cx="153396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12" name="Group 58"/>
              <p:cNvGrpSpPr/>
              <p:nvPr/>
            </p:nvGrpSpPr>
            <p:grpSpPr>
              <a:xfrm>
                <a:off x="3636000" y="2599560"/>
                <a:ext cx="1642680" cy="701640"/>
                <a:chOff x="3636000" y="2599560"/>
                <a:chExt cx="1642680" cy="701640"/>
              </a:xfrm>
            </p:grpSpPr>
            <p:sp>
              <p:nvSpPr>
                <p:cNvPr id="113" name="Rectangle 59"/>
                <p:cNvSpPr/>
                <p:nvPr/>
              </p:nvSpPr>
              <p:spPr>
                <a:xfrm>
                  <a:off x="3644640" y="2607840"/>
                  <a:ext cx="162468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2" action="ppaction://hlinksldjump"/>
                    </a:rPr>
                    <a:t>2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14" name="Rectangle 60"/>
                <p:cNvSpPr/>
                <p:nvPr/>
              </p:nvSpPr>
              <p:spPr>
                <a:xfrm>
                  <a:off x="3636000" y="2599560"/>
                  <a:ext cx="164268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15" name="Group 61"/>
              <p:cNvGrpSpPr/>
              <p:nvPr/>
            </p:nvGrpSpPr>
            <p:grpSpPr>
              <a:xfrm>
                <a:off x="5279040" y="2599560"/>
                <a:ext cx="1607040" cy="701640"/>
                <a:chOff x="5279040" y="2599560"/>
                <a:chExt cx="1607040" cy="701640"/>
              </a:xfrm>
            </p:grpSpPr>
            <p:sp>
              <p:nvSpPr>
                <p:cNvPr id="116" name="Rectangle 62"/>
                <p:cNvSpPr/>
                <p:nvPr/>
              </p:nvSpPr>
              <p:spPr>
                <a:xfrm>
                  <a:off x="5287680" y="2607840"/>
                  <a:ext cx="158940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3" action="ppaction://hlinksldjump"/>
                    </a:rPr>
                    <a:t>2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17" name="Rectangle 63"/>
                <p:cNvSpPr/>
                <p:nvPr/>
              </p:nvSpPr>
              <p:spPr>
                <a:xfrm>
                  <a:off x="5279040" y="2599560"/>
                  <a:ext cx="160704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18" name="Group 64"/>
              <p:cNvGrpSpPr/>
              <p:nvPr/>
            </p:nvGrpSpPr>
            <p:grpSpPr>
              <a:xfrm>
                <a:off x="6886440" y="2599560"/>
                <a:ext cx="1651320" cy="710280"/>
                <a:chOff x="6886440" y="2599560"/>
                <a:chExt cx="1651320" cy="710280"/>
              </a:xfrm>
            </p:grpSpPr>
            <p:sp>
              <p:nvSpPr>
                <p:cNvPr id="119" name="Rectangle 65"/>
                <p:cNvSpPr/>
                <p:nvPr/>
              </p:nvSpPr>
              <p:spPr>
                <a:xfrm>
                  <a:off x="6886440" y="2599560"/>
                  <a:ext cx="1651320" cy="7102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4" action="ppaction://hlinksldjump"/>
                    </a:rPr>
                    <a:t>2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20" name="Rectangle 66"/>
                <p:cNvSpPr/>
                <p:nvPr/>
              </p:nvSpPr>
              <p:spPr>
                <a:xfrm>
                  <a:off x="6886440" y="2599560"/>
                  <a:ext cx="1651320" cy="7102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21" name="Group 67"/>
              <p:cNvGrpSpPr/>
              <p:nvPr/>
            </p:nvGrpSpPr>
            <p:grpSpPr>
              <a:xfrm>
                <a:off x="604440" y="3309840"/>
                <a:ext cx="1497240" cy="701280"/>
                <a:chOff x="604440" y="3309840"/>
                <a:chExt cx="1497240" cy="701280"/>
              </a:xfrm>
            </p:grpSpPr>
            <p:sp>
              <p:nvSpPr>
                <p:cNvPr id="122" name="Rectangle 68"/>
                <p:cNvSpPr/>
                <p:nvPr/>
              </p:nvSpPr>
              <p:spPr>
                <a:xfrm>
                  <a:off x="613080" y="3317760"/>
                  <a:ext cx="147960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5" action="ppaction://hlinksldjump"/>
                    </a:rPr>
                    <a:t>4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23" name="Rectangle 69"/>
                <p:cNvSpPr/>
                <p:nvPr/>
              </p:nvSpPr>
              <p:spPr>
                <a:xfrm>
                  <a:off x="604440" y="3309840"/>
                  <a:ext cx="1497240" cy="7012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24" name="Group 70"/>
              <p:cNvGrpSpPr/>
              <p:nvPr/>
            </p:nvGrpSpPr>
            <p:grpSpPr>
              <a:xfrm>
                <a:off x="2101680" y="3309840"/>
                <a:ext cx="1533960" cy="701280"/>
                <a:chOff x="2101680" y="3309840"/>
                <a:chExt cx="1533960" cy="701280"/>
              </a:xfrm>
            </p:grpSpPr>
            <p:sp>
              <p:nvSpPr>
                <p:cNvPr id="125" name="Rectangle 71"/>
                <p:cNvSpPr/>
                <p:nvPr/>
              </p:nvSpPr>
              <p:spPr>
                <a:xfrm>
                  <a:off x="2110320" y="3317760"/>
                  <a:ext cx="151632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6" action="ppaction://hlinksldjump"/>
                    </a:rPr>
                    <a:t>4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26" name="Rectangle 72"/>
                <p:cNvSpPr/>
                <p:nvPr/>
              </p:nvSpPr>
              <p:spPr>
                <a:xfrm>
                  <a:off x="2101680" y="3309840"/>
                  <a:ext cx="1533960" cy="7012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27" name="Group 73"/>
              <p:cNvGrpSpPr/>
              <p:nvPr/>
            </p:nvGrpSpPr>
            <p:grpSpPr>
              <a:xfrm>
                <a:off x="3636000" y="3309840"/>
                <a:ext cx="1642680" cy="701280"/>
                <a:chOff x="3636000" y="3309840"/>
                <a:chExt cx="1642680" cy="701280"/>
              </a:xfrm>
            </p:grpSpPr>
            <p:sp>
              <p:nvSpPr>
                <p:cNvPr id="128" name="Rectangle 74"/>
                <p:cNvSpPr/>
                <p:nvPr/>
              </p:nvSpPr>
              <p:spPr>
                <a:xfrm>
                  <a:off x="3644640" y="3317760"/>
                  <a:ext cx="162468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7" action="ppaction://hlinksldjump"/>
                    </a:rPr>
                    <a:t>4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29" name="Rectangle 75"/>
                <p:cNvSpPr/>
                <p:nvPr/>
              </p:nvSpPr>
              <p:spPr>
                <a:xfrm>
                  <a:off x="3636000" y="3309840"/>
                  <a:ext cx="1642680" cy="7012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30" name="Group 76"/>
              <p:cNvGrpSpPr/>
              <p:nvPr/>
            </p:nvGrpSpPr>
            <p:grpSpPr>
              <a:xfrm>
                <a:off x="5279040" y="3309840"/>
                <a:ext cx="1607040" cy="701280"/>
                <a:chOff x="5279040" y="3309840"/>
                <a:chExt cx="1607040" cy="701280"/>
              </a:xfrm>
            </p:grpSpPr>
            <p:sp>
              <p:nvSpPr>
                <p:cNvPr id="131" name="Rectangle 77"/>
                <p:cNvSpPr/>
                <p:nvPr/>
              </p:nvSpPr>
              <p:spPr>
                <a:xfrm>
                  <a:off x="5287680" y="3317760"/>
                  <a:ext cx="158940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8" action="ppaction://hlinksldjump"/>
                    </a:rPr>
                    <a:t>4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32" name="Rectangle 78"/>
                <p:cNvSpPr/>
                <p:nvPr/>
              </p:nvSpPr>
              <p:spPr>
                <a:xfrm>
                  <a:off x="5279040" y="3309840"/>
                  <a:ext cx="1607040" cy="7012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33" name="Group 79"/>
              <p:cNvGrpSpPr/>
              <p:nvPr/>
            </p:nvGrpSpPr>
            <p:grpSpPr>
              <a:xfrm>
                <a:off x="6886440" y="3309840"/>
                <a:ext cx="1651320" cy="709920"/>
                <a:chOff x="6886440" y="3309840"/>
                <a:chExt cx="1651320" cy="709920"/>
              </a:xfrm>
            </p:grpSpPr>
            <p:sp>
              <p:nvSpPr>
                <p:cNvPr id="134" name="Rectangle 80"/>
                <p:cNvSpPr/>
                <p:nvPr/>
              </p:nvSpPr>
              <p:spPr>
                <a:xfrm>
                  <a:off x="6886440" y="3309840"/>
                  <a:ext cx="1651320" cy="70992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9" action="ppaction://hlinksldjump"/>
                    </a:rPr>
                    <a:t>4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35" name="Rectangle 81"/>
                <p:cNvSpPr/>
                <p:nvPr/>
              </p:nvSpPr>
              <p:spPr>
                <a:xfrm>
                  <a:off x="6886440" y="3309840"/>
                  <a:ext cx="1651320" cy="70992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36" name="Group 82"/>
              <p:cNvGrpSpPr/>
              <p:nvPr/>
            </p:nvGrpSpPr>
            <p:grpSpPr>
              <a:xfrm>
                <a:off x="604440" y="4019760"/>
                <a:ext cx="1497240" cy="701640"/>
                <a:chOff x="604440" y="4019760"/>
                <a:chExt cx="1497240" cy="701640"/>
              </a:xfrm>
            </p:grpSpPr>
            <p:sp>
              <p:nvSpPr>
                <p:cNvPr id="137" name="Rectangle 83"/>
                <p:cNvSpPr/>
                <p:nvPr/>
              </p:nvSpPr>
              <p:spPr>
                <a:xfrm>
                  <a:off x="613080" y="4027680"/>
                  <a:ext cx="1479600" cy="69336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0" action="ppaction://hlinksldjump"/>
                    </a:rPr>
                    <a:t>6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38" name="Rectangle 84"/>
                <p:cNvSpPr/>
                <p:nvPr/>
              </p:nvSpPr>
              <p:spPr>
                <a:xfrm>
                  <a:off x="604440" y="4019760"/>
                  <a:ext cx="149724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39" name="Group 85"/>
              <p:cNvGrpSpPr/>
              <p:nvPr/>
            </p:nvGrpSpPr>
            <p:grpSpPr>
              <a:xfrm>
                <a:off x="2101680" y="4019760"/>
                <a:ext cx="1533960" cy="701640"/>
                <a:chOff x="2101680" y="4019760"/>
                <a:chExt cx="1533960" cy="701640"/>
              </a:xfrm>
            </p:grpSpPr>
            <p:sp>
              <p:nvSpPr>
                <p:cNvPr id="140" name="Rectangle 86"/>
                <p:cNvSpPr/>
                <p:nvPr/>
              </p:nvSpPr>
              <p:spPr>
                <a:xfrm>
                  <a:off x="2110320" y="4027680"/>
                  <a:ext cx="1516320" cy="69336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1" action="ppaction://hlinksldjump"/>
                    </a:rPr>
                    <a:t>6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41" name="Rectangle 87"/>
                <p:cNvSpPr/>
                <p:nvPr/>
              </p:nvSpPr>
              <p:spPr>
                <a:xfrm>
                  <a:off x="2101680" y="4019760"/>
                  <a:ext cx="153396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42" name="Group 88"/>
              <p:cNvGrpSpPr/>
              <p:nvPr/>
            </p:nvGrpSpPr>
            <p:grpSpPr>
              <a:xfrm>
                <a:off x="3636000" y="4019760"/>
                <a:ext cx="1642680" cy="701640"/>
                <a:chOff x="3636000" y="4019760"/>
                <a:chExt cx="1642680" cy="701640"/>
              </a:xfrm>
            </p:grpSpPr>
            <p:sp>
              <p:nvSpPr>
                <p:cNvPr id="143" name="Rectangle 89"/>
                <p:cNvSpPr/>
                <p:nvPr/>
              </p:nvSpPr>
              <p:spPr>
                <a:xfrm>
                  <a:off x="3644640" y="4027680"/>
                  <a:ext cx="1624680" cy="69336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2" action="ppaction://hlinksldjump"/>
                    </a:rPr>
                    <a:t>6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44" name="Rectangle 90"/>
                <p:cNvSpPr/>
                <p:nvPr/>
              </p:nvSpPr>
              <p:spPr>
                <a:xfrm>
                  <a:off x="3636000" y="4019760"/>
                  <a:ext cx="164268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45" name="Group 91"/>
              <p:cNvGrpSpPr/>
              <p:nvPr/>
            </p:nvGrpSpPr>
            <p:grpSpPr>
              <a:xfrm>
                <a:off x="5279040" y="4019760"/>
                <a:ext cx="1607040" cy="701640"/>
                <a:chOff x="5279040" y="4019760"/>
                <a:chExt cx="1607040" cy="701640"/>
              </a:xfrm>
            </p:grpSpPr>
            <p:sp>
              <p:nvSpPr>
                <p:cNvPr id="146" name="Rectangle 92"/>
                <p:cNvSpPr/>
                <p:nvPr/>
              </p:nvSpPr>
              <p:spPr>
                <a:xfrm>
                  <a:off x="5287680" y="4027680"/>
                  <a:ext cx="1589400" cy="69336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3" action="ppaction://hlinksldjump"/>
                    </a:rPr>
                    <a:t>6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47" name="Rectangle 93"/>
                <p:cNvSpPr/>
                <p:nvPr/>
              </p:nvSpPr>
              <p:spPr>
                <a:xfrm>
                  <a:off x="5279040" y="4019760"/>
                  <a:ext cx="160704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48" name="Group 94"/>
              <p:cNvGrpSpPr/>
              <p:nvPr/>
            </p:nvGrpSpPr>
            <p:grpSpPr>
              <a:xfrm>
                <a:off x="6886440" y="4019760"/>
                <a:ext cx="1651320" cy="709920"/>
                <a:chOff x="6886440" y="4019760"/>
                <a:chExt cx="1651320" cy="709920"/>
              </a:xfrm>
            </p:grpSpPr>
            <p:sp>
              <p:nvSpPr>
                <p:cNvPr id="149" name="Rectangle 95"/>
                <p:cNvSpPr/>
                <p:nvPr/>
              </p:nvSpPr>
              <p:spPr>
                <a:xfrm>
                  <a:off x="6886440" y="4019760"/>
                  <a:ext cx="1651320" cy="70992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4" action="ppaction://hlinksldjump"/>
                    </a:rPr>
                    <a:t>6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50" name="Rectangle 96"/>
                <p:cNvSpPr/>
                <p:nvPr/>
              </p:nvSpPr>
              <p:spPr>
                <a:xfrm>
                  <a:off x="6886440" y="4019760"/>
                  <a:ext cx="1651320" cy="70992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51" name="Group 97"/>
              <p:cNvGrpSpPr/>
              <p:nvPr/>
            </p:nvGrpSpPr>
            <p:grpSpPr>
              <a:xfrm>
                <a:off x="604440" y="4729680"/>
                <a:ext cx="1497240" cy="701640"/>
                <a:chOff x="604440" y="4729680"/>
                <a:chExt cx="1497240" cy="701640"/>
              </a:xfrm>
            </p:grpSpPr>
            <p:sp>
              <p:nvSpPr>
                <p:cNvPr id="152" name="Rectangle 98"/>
                <p:cNvSpPr/>
                <p:nvPr/>
              </p:nvSpPr>
              <p:spPr>
                <a:xfrm>
                  <a:off x="613080" y="4737960"/>
                  <a:ext cx="147960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5" action="ppaction://hlinksldjump"/>
                    </a:rPr>
                    <a:t>8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53" name="Rectangle 99"/>
                <p:cNvSpPr/>
                <p:nvPr/>
              </p:nvSpPr>
              <p:spPr>
                <a:xfrm>
                  <a:off x="604440" y="4729680"/>
                  <a:ext cx="149724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54" name="Group 100"/>
              <p:cNvGrpSpPr/>
              <p:nvPr/>
            </p:nvGrpSpPr>
            <p:grpSpPr>
              <a:xfrm>
                <a:off x="2101680" y="4729680"/>
                <a:ext cx="1533960" cy="701640"/>
                <a:chOff x="2101680" y="4729680"/>
                <a:chExt cx="1533960" cy="701640"/>
              </a:xfrm>
            </p:grpSpPr>
            <p:sp>
              <p:nvSpPr>
                <p:cNvPr id="155" name="Rectangle 101"/>
                <p:cNvSpPr/>
                <p:nvPr/>
              </p:nvSpPr>
              <p:spPr>
                <a:xfrm>
                  <a:off x="2110320" y="4737960"/>
                  <a:ext cx="151632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6" action="ppaction://hlinksldjump"/>
                    </a:rPr>
                    <a:t>8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56" name="Rectangle 102"/>
                <p:cNvSpPr/>
                <p:nvPr/>
              </p:nvSpPr>
              <p:spPr>
                <a:xfrm>
                  <a:off x="2101680" y="4729680"/>
                  <a:ext cx="153396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57" name="Group 103"/>
              <p:cNvGrpSpPr/>
              <p:nvPr/>
            </p:nvGrpSpPr>
            <p:grpSpPr>
              <a:xfrm>
                <a:off x="3636000" y="4729680"/>
                <a:ext cx="1642680" cy="701640"/>
                <a:chOff x="3636000" y="4729680"/>
                <a:chExt cx="1642680" cy="701640"/>
              </a:xfrm>
            </p:grpSpPr>
            <p:sp>
              <p:nvSpPr>
                <p:cNvPr id="158" name="Rectangle 104"/>
                <p:cNvSpPr/>
                <p:nvPr/>
              </p:nvSpPr>
              <p:spPr>
                <a:xfrm>
                  <a:off x="3644640" y="4737960"/>
                  <a:ext cx="162468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7" action="ppaction://hlinksldjump"/>
                    </a:rPr>
                    <a:t>8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59" name="Rectangle 105"/>
                <p:cNvSpPr/>
                <p:nvPr/>
              </p:nvSpPr>
              <p:spPr>
                <a:xfrm>
                  <a:off x="3636000" y="4729680"/>
                  <a:ext cx="164268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60" name="Group 106"/>
              <p:cNvGrpSpPr/>
              <p:nvPr/>
            </p:nvGrpSpPr>
            <p:grpSpPr>
              <a:xfrm>
                <a:off x="5279040" y="4729680"/>
                <a:ext cx="1607040" cy="701640"/>
                <a:chOff x="5279040" y="4729680"/>
                <a:chExt cx="1607040" cy="701640"/>
              </a:xfrm>
            </p:grpSpPr>
            <p:sp>
              <p:nvSpPr>
                <p:cNvPr id="161" name="Rectangle 107"/>
                <p:cNvSpPr/>
                <p:nvPr/>
              </p:nvSpPr>
              <p:spPr>
                <a:xfrm>
                  <a:off x="5287680" y="4737960"/>
                  <a:ext cx="158940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8" action="ppaction://hlinksldjump"/>
                    </a:rPr>
                    <a:t>8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62" name="Rectangle 108"/>
                <p:cNvSpPr/>
                <p:nvPr/>
              </p:nvSpPr>
              <p:spPr>
                <a:xfrm>
                  <a:off x="5279040" y="4729680"/>
                  <a:ext cx="160704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63" name="Group 109"/>
              <p:cNvGrpSpPr/>
              <p:nvPr/>
            </p:nvGrpSpPr>
            <p:grpSpPr>
              <a:xfrm>
                <a:off x="6886440" y="4729680"/>
                <a:ext cx="1651320" cy="709920"/>
                <a:chOff x="6886440" y="4729680"/>
                <a:chExt cx="1651320" cy="709920"/>
              </a:xfrm>
            </p:grpSpPr>
            <p:sp>
              <p:nvSpPr>
                <p:cNvPr id="164" name="Rectangle 110"/>
                <p:cNvSpPr/>
                <p:nvPr/>
              </p:nvSpPr>
              <p:spPr>
                <a:xfrm>
                  <a:off x="6886440" y="4729680"/>
                  <a:ext cx="1651320" cy="70992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9" action="ppaction://hlinksldjump"/>
                    </a:rPr>
                    <a:t>8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65" name="Rectangle 111"/>
                <p:cNvSpPr/>
                <p:nvPr/>
              </p:nvSpPr>
              <p:spPr>
                <a:xfrm>
                  <a:off x="6886440" y="4729680"/>
                  <a:ext cx="1651320" cy="70992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66" name="Group 112"/>
              <p:cNvGrpSpPr/>
              <p:nvPr/>
            </p:nvGrpSpPr>
            <p:grpSpPr>
              <a:xfrm>
                <a:off x="604440" y="5439960"/>
                <a:ext cx="1497240" cy="701640"/>
                <a:chOff x="604440" y="5439960"/>
                <a:chExt cx="1497240" cy="701640"/>
              </a:xfrm>
            </p:grpSpPr>
            <p:sp>
              <p:nvSpPr>
                <p:cNvPr id="167" name="Rectangle 113"/>
                <p:cNvSpPr/>
                <p:nvPr/>
              </p:nvSpPr>
              <p:spPr>
                <a:xfrm>
                  <a:off x="613080" y="5448240"/>
                  <a:ext cx="147960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20" action="ppaction://hlinksldjump"/>
                    </a:rPr>
                    <a:t>1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68" name="Rectangle 114"/>
                <p:cNvSpPr/>
                <p:nvPr/>
              </p:nvSpPr>
              <p:spPr>
                <a:xfrm>
                  <a:off x="604440" y="5439960"/>
                  <a:ext cx="149724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69" name="Group 115"/>
              <p:cNvGrpSpPr/>
              <p:nvPr/>
            </p:nvGrpSpPr>
            <p:grpSpPr>
              <a:xfrm>
                <a:off x="2101680" y="5439960"/>
                <a:ext cx="1533960" cy="701640"/>
                <a:chOff x="2101680" y="5439960"/>
                <a:chExt cx="1533960" cy="701640"/>
              </a:xfrm>
            </p:grpSpPr>
            <p:sp>
              <p:nvSpPr>
                <p:cNvPr id="170" name="Rectangle 116"/>
                <p:cNvSpPr/>
                <p:nvPr/>
              </p:nvSpPr>
              <p:spPr>
                <a:xfrm>
                  <a:off x="2110320" y="5448240"/>
                  <a:ext cx="151632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21" action="ppaction://hlinksldjump"/>
                    </a:rPr>
                    <a:t>1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71" name="Rectangle 117"/>
                <p:cNvSpPr/>
                <p:nvPr/>
              </p:nvSpPr>
              <p:spPr>
                <a:xfrm>
                  <a:off x="2101680" y="5439960"/>
                  <a:ext cx="153396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72" name="Group 118"/>
              <p:cNvGrpSpPr/>
              <p:nvPr/>
            </p:nvGrpSpPr>
            <p:grpSpPr>
              <a:xfrm>
                <a:off x="3636000" y="5439960"/>
                <a:ext cx="1642680" cy="701640"/>
                <a:chOff x="3636000" y="5439960"/>
                <a:chExt cx="1642680" cy="701640"/>
              </a:xfrm>
            </p:grpSpPr>
            <p:sp>
              <p:nvSpPr>
                <p:cNvPr id="173" name="Rectangle 119"/>
                <p:cNvSpPr/>
                <p:nvPr/>
              </p:nvSpPr>
              <p:spPr>
                <a:xfrm>
                  <a:off x="3644640" y="5448240"/>
                  <a:ext cx="162468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22" action="ppaction://hlinksldjump"/>
                    </a:rPr>
                    <a:t>1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74" name="Rectangle 120"/>
                <p:cNvSpPr/>
                <p:nvPr/>
              </p:nvSpPr>
              <p:spPr>
                <a:xfrm>
                  <a:off x="3636000" y="5439960"/>
                  <a:ext cx="164268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75" name="Group 121"/>
              <p:cNvGrpSpPr/>
              <p:nvPr/>
            </p:nvGrpSpPr>
            <p:grpSpPr>
              <a:xfrm>
                <a:off x="5279040" y="5439960"/>
                <a:ext cx="1607040" cy="701640"/>
                <a:chOff x="5279040" y="5439960"/>
                <a:chExt cx="1607040" cy="701640"/>
              </a:xfrm>
            </p:grpSpPr>
            <p:sp>
              <p:nvSpPr>
                <p:cNvPr id="176" name="Rectangle 122"/>
                <p:cNvSpPr/>
                <p:nvPr/>
              </p:nvSpPr>
              <p:spPr>
                <a:xfrm>
                  <a:off x="5287680" y="5448240"/>
                  <a:ext cx="158940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23" action="ppaction://hlinksldjump"/>
                    </a:rPr>
                    <a:t>1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77" name="Rectangle 123"/>
                <p:cNvSpPr/>
                <p:nvPr/>
              </p:nvSpPr>
              <p:spPr>
                <a:xfrm>
                  <a:off x="5279040" y="5439960"/>
                  <a:ext cx="160704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78" name="Group 124"/>
              <p:cNvGrpSpPr/>
              <p:nvPr/>
            </p:nvGrpSpPr>
            <p:grpSpPr>
              <a:xfrm>
                <a:off x="6886440" y="5439960"/>
                <a:ext cx="1651320" cy="710280"/>
                <a:chOff x="6886440" y="5439960"/>
                <a:chExt cx="1651320" cy="710280"/>
              </a:xfrm>
            </p:grpSpPr>
            <p:sp>
              <p:nvSpPr>
                <p:cNvPr id="179" name="Rectangle 125"/>
                <p:cNvSpPr/>
                <p:nvPr/>
              </p:nvSpPr>
              <p:spPr>
                <a:xfrm>
                  <a:off x="6886440" y="5439960"/>
                  <a:ext cx="1651320" cy="7102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24" action="ppaction://hlinksldjump"/>
                    </a:rPr>
                    <a:t>1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80" name="Rectangle 126"/>
                <p:cNvSpPr/>
                <p:nvPr/>
              </p:nvSpPr>
              <p:spPr>
                <a:xfrm>
                  <a:off x="6886440" y="5439960"/>
                  <a:ext cx="1651320" cy="7102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</p:grpSp>
        <p:sp>
          <p:nvSpPr>
            <p:cNvPr id="181" name="Rectangle 127"/>
            <p:cNvSpPr/>
            <p:nvPr/>
          </p:nvSpPr>
          <p:spPr>
            <a:xfrm>
              <a:off x="600120" y="1674720"/>
              <a:ext cx="7942320" cy="44798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</p:grpSp>
      <p:sp>
        <p:nvSpPr>
          <p:cNvPr id="182" name="WordArt 128"/>
          <p:cNvSpPr txBox="1"/>
          <p:nvPr/>
        </p:nvSpPr>
        <p:spPr>
          <a:xfrm>
            <a:off x="7693200" y="6305400"/>
            <a:ext cx="11667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Gyparody"/>
              </a:rPr>
              <a:t>Score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Gyparody"/>
              <a:ea typeface="Gyparody"/>
            </a:endParaRPr>
          </a:p>
        </p:txBody>
      </p:sp>
      <p:sp>
        <p:nvSpPr>
          <p:cNvPr id="183" name="WordArt 129"/>
          <p:cNvSpPr txBox="1"/>
          <p:nvPr/>
        </p:nvSpPr>
        <p:spPr>
          <a:xfrm rot="279000">
            <a:off x="1819080" y="696960"/>
            <a:ext cx="54021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24000"/>
                </a:gradFill>
                <a:latin typeface="Gyparody"/>
              </a:rPr>
              <a:t>Trivi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24000"/>
              </a:gradFill>
              <a:latin typeface="Gyparody"/>
              <a:ea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59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vie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46040" y="3846240"/>
            <a:ext cx="80884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096560"/>
            <a:ext cx="79246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this 1976 gangster movie (where the gangsters are children), Scott Baio starred as the main character who was in a power battle between Fat Sam and Dandy D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TPChart"/>
          <p:cNvGraphicFramePr/>
          <p:nvPr/>
        </p:nvGraphicFramePr>
        <p:xfrm>
          <a:off x="878040" y="3137040"/>
          <a:ext cx="658944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3137040"/>
                    <a:ext cx="658944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625400" y="3276360"/>
            <a:ext cx="5537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ugsy M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es 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ck Trac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gels with Dirty 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6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usic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3863880"/>
            <a:ext cx="8163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is legendary band started their music career in 196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TPChart"/>
          <p:cNvGraphicFramePr/>
          <p:nvPr/>
        </p:nvGraphicFramePr>
        <p:xfrm>
          <a:off x="965160" y="1994040"/>
          <a:ext cx="6350040" cy="24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1994040"/>
                    <a:ext cx="635004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854000" y="2133360"/>
            <a:ext cx="5537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Rolling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Beat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rth, Wind &amp; 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61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ienc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88880" y="3852360"/>
            <a:ext cx="8197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is famous structure was built in 196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TPChart"/>
          <p:cNvGraphicFramePr/>
          <p:nvPr/>
        </p:nvGraphicFramePr>
        <p:xfrm>
          <a:off x="1038240" y="2684520"/>
          <a:ext cx="6661080" cy="19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2684520"/>
                    <a:ext cx="666108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77680" y="2742840"/>
            <a:ext cx="5537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Berlin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Mackinac Bri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St. Louis 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East Auditor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tpourri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87440" y="384300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ues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2" name="TPChart"/>
          <p:cNvGraphicFramePr/>
          <p:nvPr/>
        </p:nvGraphicFramePr>
        <p:xfrm>
          <a:off x="1041480" y="2590920"/>
          <a:ext cx="6350040" cy="119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2590920"/>
                    <a:ext cx="635004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29960" y="2895480"/>
            <a:ext cx="55371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vie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75920" y="3844440"/>
            <a:ext cx="8148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48840"/>
            <a:ext cx="79246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 this 1986 movie, Maverick was a pilot who moved up in the ranks and was sent to a prestigious naval flying schoo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9" name="TPChart"/>
          <p:cNvGraphicFramePr/>
          <p:nvPr/>
        </p:nvGraphicFramePr>
        <p:xfrm>
          <a:off x="950760" y="2984400"/>
          <a:ext cx="63676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2984400"/>
                    <a:ext cx="63676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23520" y="3124080"/>
            <a:ext cx="55371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ron Ea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ttlestar Galact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p G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m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ienc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90680" y="3860280"/>
            <a:ext cx="8129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ort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04360" y="3847680"/>
            <a:ext cx="80787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ter question text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TPChart"/>
          <p:cNvGraphicFramePr/>
          <p:nvPr/>
        </p:nvGraphicFramePr>
        <p:xfrm>
          <a:off x="530280" y="1828800"/>
          <a:ext cx="757692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828800"/>
                    <a:ext cx="757692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6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020240"/>
            <a:ext cx="79246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 1971, this famous, and often controversial, television show debut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1" name="TPChart"/>
          <p:cNvGraphicFramePr/>
          <p:nvPr/>
        </p:nvGraphicFramePr>
        <p:xfrm>
          <a:off x="987480" y="2514600"/>
          <a:ext cx="671184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514600"/>
                    <a:ext cx="67118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625400" y="2666880"/>
            <a:ext cx="55371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in the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ys of Our L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0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Brady Bu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usic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87080" y="3854160"/>
            <a:ext cx="8155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944640"/>
            <a:ext cx="792468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is artist won the Grammy for Record of the Year and Song of the Year in 198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TPChart"/>
          <p:cNvGraphicFramePr/>
          <p:nvPr/>
        </p:nvGraphicFramePr>
        <p:xfrm>
          <a:off x="987480" y="2603520"/>
          <a:ext cx="811044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603520"/>
                    <a:ext cx="811044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777680" y="2742840"/>
            <a:ext cx="5537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i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ton Joh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t Bene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ristopher Cr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tpourr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96800" y="3796920"/>
            <a:ext cx="8121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Ques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ues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TPChart"/>
          <p:cNvGraphicFramePr/>
          <p:nvPr/>
        </p:nvGraphicFramePr>
        <p:xfrm>
          <a:off x="1496880" y="3048120"/>
          <a:ext cx="536436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3048120"/>
                    <a:ext cx="536436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311200" y="3276360"/>
            <a:ext cx="5537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61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usic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90320" y="3846240"/>
            <a:ext cx="81277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is group won the best new artist Grammy in 197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TPChart"/>
          <p:cNvGraphicFramePr/>
          <p:nvPr/>
        </p:nvGraphicFramePr>
        <p:xfrm>
          <a:off x="961920" y="2603520"/>
          <a:ext cx="6432480" cy="19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2603520"/>
                    <a:ext cx="6432480" cy="19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01720" y="2742840"/>
            <a:ext cx="6680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Bee G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Carpe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Spectrum Health Roc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W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59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ort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546120" y="3836520"/>
            <a:ext cx="80755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  <p:graphicFrame>
        <p:nvGraphicFramePr>
          <p:cNvPr id="188" name="TPChart"/>
          <p:cNvGraphicFramePr/>
          <p:nvPr/>
        </p:nvGraphicFramePr>
        <p:xfrm>
          <a:off x="533520" y="1447920"/>
          <a:ext cx="6476760" cy="21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6476760" cy="21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lle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lum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ter question text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TPChart"/>
          <p:cNvGraphicFramePr/>
          <p:nvPr/>
        </p:nvGraphicFramePr>
        <p:xfrm>
          <a:off x="503280" y="1917720"/>
          <a:ext cx="803592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917720"/>
                    <a:ext cx="803592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791640"/>
            <a:ext cx="79246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is is the name of the eldest child on The Cosby Sh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4" name="TPChart"/>
          <p:cNvGraphicFramePr/>
          <p:nvPr/>
        </p:nvGraphicFramePr>
        <p:xfrm>
          <a:off x="1114560" y="2527200"/>
          <a:ext cx="605124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2527200"/>
                    <a:ext cx="605124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77680" y="2666880"/>
            <a:ext cx="55371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nes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n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und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59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ienc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531360" y="3838680"/>
            <a:ext cx="80773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020240"/>
            <a:ext cx="79246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United States Supreme Court reached this landmark decision in 1966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TPChart"/>
          <p:cNvGraphicFramePr/>
          <p:nvPr/>
        </p:nvGraphicFramePr>
        <p:xfrm>
          <a:off x="493560" y="2819520"/>
          <a:ext cx="78170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2819520"/>
                    <a:ext cx="7817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5280" y="28191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rown v. Board of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oe v. W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ra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. Mary’s Medical Center v. Rietsc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6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tpourri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66560" y="3836520"/>
            <a:ext cx="81662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es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8" name="TPChart"/>
          <p:cNvGraphicFramePr/>
          <p:nvPr/>
        </p:nvGraphicFramePr>
        <p:xfrm>
          <a:off x="888840" y="2362320"/>
          <a:ext cx="497844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2362320"/>
                    <a:ext cx="497844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01360" y="2742840"/>
            <a:ext cx="5537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ort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65120" y="3858840"/>
            <a:ext cx="81676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ter question text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5" name="TPChart"/>
          <p:cNvGraphicFramePr/>
          <p:nvPr/>
        </p:nvGraphicFramePr>
        <p:xfrm>
          <a:off x="581040" y="1841400"/>
          <a:ext cx="7500960" cy="23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841400"/>
                    <a:ext cx="750096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020240"/>
            <a:ext cx="79246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is classic show made its debut in 1961 and ended its television run in 1966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TPChart"/>
          <p:cNvGraphicFramePr/>
          <p:nvPr/>
        </p:nvGraphicFramePr>
        <p:xfrm>
          <a:off x="798480" y="2743200"/>
          <a:ext cx="8121600" cy="24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2743200"/>
                    <a:ext cx="812160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625760" y="2895480"/>
            <a:ext cx="66801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Dick Van Dyke 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ther Knows B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ave it to Bea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Spectrum Health Variety 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791640"/>
            <a:ext cx="79246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Gyparody"/>
              </a:rPr>
              <a:t>Team Scor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2225520"/>
          <a:ext cx="8458200" cy="4267440"/>
        </p:xfrm>
        <a:graphic>
          <a:graphicData uri="http://schemas.openxmlformats.org/drawingml/2006/table">
            <a:tbl>
              <a:tblPr/>
              <a:tblGrid>
                <a:gridCol w="1208160"/>
                <a:gridCol w="3021120"/>
                <a:gridCol w="1207800"/>
                <a:gridCol w="3021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Gyparody"/>
                        </a:rPr>
                        <a:t>635.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Gyparody"/>
                        </a:rPr>
                        <a:t>Team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Gyparody"/>
                        </a:rPr>
                        <a:t>565.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Gyparody"/>
                        </a:rPr>
                        <a:t>Team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Gyparody"/>
                        </a:rPr>
                        <a:t>551.9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Gyparody"/>
                        </a:rPr>
                        <a:t>Team 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Gyparody"/>
                        </a:rPr>
                        <a:t>537.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Gyparody"/>
                        </a:rPr>
                        <a:t>Team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Gyparody"/>
                        </a:rPr>
                        <a:t>528.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Gyparody"/>
                        </a:rPr>
                        <a:t>Team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9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ort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76280" y="3858840"/>
            <a:ext cx="81136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ter question text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TPChart"/>
          <p:cNvGraphicFramePr/>
          <p:nvPr/>
        </p:nvGraphicFramePr>
        <p:xfrm>
          <a:off x="657360" y="2070000"/>
          <a:ext cx="7119720" cy="23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2070000"/>
                    <a:ext cx="711972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25760" y="22096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7"/>
          <p:cNvSpPr/>
          <p:nvPr/>
        </p:nvSpPr>
        <p:spPr>
          <a:xfrm>
            <a:off x="228600" y="609588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TPChart"/>
          <p:cNvGraphicFramePr/>
          <p:nvPr/>
        </p:nvGraphicFramePr>
        <p:xfrm>
          <a:off x="431640" y="2070000"/>
          <a:ext cx="7035840" cy="27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2070000"/>
                    <a:ext cx="703584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01720" y="2209680"/>
            <a:ext cx="6222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e E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ristin, Sue Ellen’s s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ucy E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m E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1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tpourri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65120" y="3843000"/>
            <a:ext cx="81597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0:49:47Z</dcterms:created>
  <dc:creator>Turning Technologies, LLC</dc:creator>
  <dc:description/>
  <dc:language>en-US</dc:language>
  <cp:lastModifiedBy> </cp:lastModifiedBy>
  <dcterms:modified xsi:type="dcterms:W3CDTF">2009-02-02T18:45:38Z</dcterms:modified>
  <cp:revision>46</cp:revision>
  <dc:subject/>
  <dc:title>Slide 1</dc:title>
</cp:coreProperties>
</file>